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596B3C9-1D4D-4C19-828A-CB293CFF1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8BB59C-2AB0-45C3-A2AB-0E6E9B0754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1E5CFAE-988C-4027-8632-8D34AEBD16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49806B-EBCF-4597-A131-0A41167D99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5570A5-4126-4F13-8406-864CE0BBF0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6B7DBB-DC87-4D3B-8531-D708472E47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99C4DBD-37B0-46D9-9862-1D2AB6A3F4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3F66E1-D6DD-4DE7-86C3-F43F389E6A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9089CB-D1EB-453F-9AA7-B125549B19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BE5E3A-C9D6-4E2B-8EA3-21C32BEDDB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67A691-538E-436A-BF86-81CE4F08E9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C88F36-A59B-4F65-BAD1-D0B25161FC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314CC5-5D04-459C-AF69-DC3872FDA5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8F12BB-465B-4210-BBAC-673C75AC64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43F6725-4830-4D23-AC71-6D674B49E9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78A95A-C007-4583-B784-5243A58FAD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7512B2-0462-439E-ABBD-30CBE8E6D1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813597-A069-4CC4-84B9-C461FE5933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B1189F6-A333-4A27-93FB-EC50FBABD2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69DC422-742F-4ADE-A806-D7B7F667F3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91F6BF-1218-4027-821C-EDDDD63AFF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A26F98-A40A-47E2-8117-C794D7E9BE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nim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432EAB-9740-4DAF-A4F1-C1F1E490E5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04847-5837-47D3-A78C-42CBEFCB66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A54F6-1703-47F5-9A42-0501D8ED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AAD97-2DF2-41F2-89A3-5B178186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BE620-7D78-49AB-B0E6-DA1941B753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C5357-FC77-48CF-A22D-610F4B82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31A4A-5013-49BE-859B-0DCA14B8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78223-8886-491A-A10A-990E451F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6E7DF-8EB1-4192-8090-E72137A1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CDCD8-21BD-4205-BA38-7A710E5E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507960" y="307440"/>
            <a:ext cx="914400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8DFBF-27B6-4008-95E0-915D746F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0EA47-9F02-4E3C-AC57-618A7F17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C841D-B1FB-4EAB-855A-9AA889AB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2F038-8D2F-4E8D-862E-FF33E980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651F0-0CF1-4143-8754-CF2D04DA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78955-02B8-4459-AECE-2128BBCE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E6DD6-9A02-49BA-AC6E-29682FF3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B9359-884E-4218-8583-70E7E18A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6AD11-BBBA-4EF2-87DF-34E44D39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CDC4E-3C5E-42FA-8A26-A3521918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0A030-38DB-4867-818F-D0CA0AE5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07960" y="307440"/>
            <a:ext cx="914400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B4768-4CB7-4E19-A237-DA6EFB40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C0988-410B-479A-B4E4-3A17F4BA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1BDBC-4484-4EE2-B4A1-F0891934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B9908-5950-4BF8-820F-5CA44290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7364520" y="7143840"/>
            <a:ext cx="317520" cy="23328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0" y="4741920"/>
            <a:ext cx="10156320" cy="2877840"/>
            <a:chOff x="0" y="4741920"/>
            <a:chExt cx="10156320" cy="2877840"/>
          </a:xfrm>
        </p:grpSpPr>
        <p:sp>
          <p:nvSpPr>
            <p:cNvPr id="2" name="Freeform 4"/>
            <p:cNvSpPr/>
            <p:nvPr/>
          </p:nvSpPr>
          <p:spPr>
            <a:xfrm>
              <a:off x="0" y="4741920"/>
              <a:ext cx="10156320" cy="287784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6219720" y="6553080"/>
              <a:ext cx="1396440" cy="918360"/>
              <a:chOff x="6219720" y="6553080"/>
              <a:chExt cx="1396440" cy="91836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6499800" y="6721560"/>
                <a:ext cx="937800" cy="575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6570720" y="6772680"/>
                <a:ext cx="796680" cy="483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669360" y="6829200"/>
                <a:ext cx="609480" cy="372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739920" y="6871320"/>
                <a:ext cx="461520" cy="27972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799680" y="6917400"/>
                <a:ext cx="338400" cy="188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304320" y="6553080"/>
                <a:ext cx="675360" cy="28332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516000" y="7355520"/>
                <a:ext cx="782640" cy="11592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6219720" y="6888960"/>
                <a:ext cx="156960" cy="380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6293520" y="6605640"/>
                <a:ext cx="1322640" cy="81684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119000" y="6563520"/>
                <a:ext cx="165600" cy="52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895080" y="6963120"/>
                <a:ext cx="147600" cy="92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129120" y="6405120"/>
              <a:ext cx="2867040" cy="1203840"/>
              <a:chOff x="3129120" y="6405120"/>
              <a:chExt cx="2867040" cy="120384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996360" y="6939000"/>
                <a:ext cx="1125360" cy="66420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4077720" y="6981480"/>
                <a:ext cx="957600" cy="579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4125240" y="7018200"/>
                <a:ext cx="88344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4172760" y="7050240"/>
                <a:ext cx="783000" cy="454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4203000" y="7064280"/>
                <a:ext cx="728280" cy="4212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4294440" y="7101360"/>
                <a:ext cx="539640" cy="338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4363200" y="7154280"/>
                <a:ext cx="400320" cy="2307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479840" y="7226640"/>
                <a:ext cx="158040" cy="105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555440" y="6741720"/>
                <a:ext cx="791640" cy="32616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774600" y="6794280"/>
                <a:ext cx="1572840" cy="814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668400" y="6753960"/>
                <a:ext cx="717840" cy="8492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5264640" y="7133040"/>
                <a:ext cx="190080" cy="44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643560" y="6500160"/>
                <a:ext cx="1467360" cy="26244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3289320" y="6796440"/>
                <a:ext cx="301320" cy="8125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5201280" y="6616440"/>
                <a:ext cx="635040" cy="992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4084920" y="6405120"/>
                <a:ext cx="1900800" cy="749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823720" y="7196400"/>
                <a:ext cx="172440" cy="412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3129120" y="6482520"/>
                <a:ext cx="848160" cy="11206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7277760" y="5927040"/>
              <a:ext cx="2382840" cy="1447200"/>
              <a:chOff x="7277760" y="5927040"/>
              <a:chExt cx="2382840" cy="1447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7404840" y="6005880"/>
                <a:ext cx="2118240" cy="12891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7277760" y="5942520"/>
                <a:ext cx="959400" cy="129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8450640" y="5927040"/>
                <a:ext cx="1070640" cy="44424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9249480" y="7071120"/>
                <a:ext cx="127080" cy="9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942680" y="7184160"/>
                <a:ext cx="1243440" cy="190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9408240" y="6450120"/>
                <a:ext cx="252360" cy="596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926920" y="6392160"/>
                <a:ext cx="146160" cy="1584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836840" y="6265080"/>
                <a:ext cx="1264680" cy="759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7672680" y="6196320"/>
                <a:ext cx="1594440" cy="939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046720" y="6164640"/>
                <a:ext cx="643680" cy="116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868880" y="6275880"/>
                <a:ext cx="117720" cy="8424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8015040" y="6364080"/>
                <a:ext cx="913320" cy="5641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8071560" y="6402600"/>
                <a:ext cx="784440" cy="47772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8133120" y="6437880"/>
                <a:ext cx="673920" cy="4107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8205480" y="6487560"/>
                <a:ext cx="525240" cy="3117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8269200" y="6522840"/>
                <a:ext cx="391320" cy="246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8355600" y="6577560"/>
                <a:ext cx="221760" cy="1425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9309600" y="5334480"/>
              <a:ext cx="749160" cy="454320"/>
              <a:chOff x="9309600" y="5334480"/>
              <a:chExt cx="749160" cy="45432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9309600" y="5619600"/>
                <a:ext cx="673560" cy="169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9371520" y="5334480"/>
                <a:ext cx="451440" cy="9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9953280" y="5408280"/>
                <a:ext cx="105480" cy="27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9482040" y="5725800"/>
                <a:ext cx="338400" cy="313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9355320" y="5365800"/>
                <a:ext cx="276480" cy="3279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9678240" y="5365800"/>
                <a:ext cx="327600" cy="37368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9424080" y="5394240"/>
                <a:ext cx="527040" cy="3276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9487800" y="5441760"/>
                <a:ext cx="399960" cy="232200"/>
                <a:chOff x="9487800" y="5441760"/>
                <a:chExt cx="399960" cy="23220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9487800" y="5441760"/>
                  <a:ext cx="399960" cy="23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9526320" y="5466240"/>
                  <a:ext cx="320400" cy="17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9577440" y="5483880"/>
                  <a:ext cx="213120" cy="144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9623160" y="5511960"/>
                  <a:ext cx="133920" cy="8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240" bIns="12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1428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66840" indent="-250920">
              <a:spcBef>
                <a:spcPts val="901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774800" indent="-250920">
              <a:spcBef>
                <a:spcPts val="90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282760" indent="-250920">
              <a:spcBef>
                <a:spcPts val="901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282760" indent="-250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282760" indent="-250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7F1A-8561-4A0C-A6DD-231AA3928A0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2"/>
          </p:nvPr>
        </p:nvSpPr>
        <p:spPr>
          <a:xfrm>
            <a:off x="4165560" y="7010280"/>
            <a:ext cx="1905120" cy="43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3B66-B6FD-4652-8114-5A9181AAE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Picture 6" descr="color logo"/>
          <p:cNvPicPr/>
          <p:nvPr/>
        </p:nvPicPr>
        <p:blipFill>
          <a:blip r:embed="rId3"/>
          <a:stretch/>
        </p:blipFill>
        <p:spPr>
          <a:xfrm>
            <a:off x="8508960" y="6934320"/>
            <a:ext cx="139716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31640" y="6781680"/>
            <a:ext cx="1143000" cy="609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1803240" y="6781680"/>
            <a:ext cx="152424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reeform 2"/>
          <p:cNvSpPr/>
          <p:nvPr/>
        </p:nvSpPr>
        <p:spPr>
          <a:xfrm>
            <a:off x="7364520" y="7143840"/>
            <a:ext cx="317520" cy="23328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Group 3"/>
          <p:cNvGrpSpPr/>
          <p:nvPr/>
        </p:nvGrpSpPr>
        <p:grpSpPr>
          <a:xfrm>
            <a:off x="3240" y="4741920"/>
            <a:ext cx="10156320" cy="2877840"/>
            <a:chOff x="3240" y="4741920"/>
            <a:chExt cx="10156320" cy="2877840"/>
          </a:xfrm>
        </p:grpSpPr>
        <p:sp>
          <p:nvSpPr>
            <p:cNvPr id="110" name="Freeform 4"/>
            <p:cNvSpPr/>
            <p:nvPr/>
          </p:nvSpPr>
          <p:spPr>
            <a:xfrm>
              <a:off x="3240" y="4741920"/>
              <a:ext cx="10156320" cy="287784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1" name="Group 5"/>
            <p:cNvGrpSpPr/>
            <p:nvPr/>
          </p:nvGrpSpPr>
          <p:grpSpPr>
            <a:xfrm>
              <a:off x="6222960" y="6553080"/>
              <a:ext cx="1396440" cy="918360"/>
              <a:chOff x="6222960" y="6553080"/>
              <a:chExt cx="1396440" cy="918360"/>
            </a:xfrm>
          </p:grpSpPr>
          <p:sp>
            <p:nvSpPr>
              <p:cNvPr id="112" name="Oval 6"/>
              <p:cNvSpPr/>
              <p:nvPr/>
            </p:nvSpPr>
            <p:spPr>
              <a:xfrm>
                <a:off x="6503040" y="6721560"/>
                <a:ext cx="937800" cy="575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Oval 7"/>
              <p:cNvSpPr/>
              <p:nvPr/>
            </p:nvSpPr>
            <p:spPr>
              <a:xfrm>
                <a:off x="6573960" y="6772680"/>
                <a:ext cx="796680" cy="483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Oval 8"/>
              <p:cNvSpPr/>
              <p:nvPr/>
            </p:nvSpPr>
            <p:spPr>
              <a:xfrm>
                <a:off x="6672600" y="6829200"/>
                <a:ext cx="609480" cy="372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Oval 9"/>
              <p:cNvSpPr/>
              <p:nvPr/>
            </p:nvSpPr>
            <p:spPr>
              <a:xfrm>
                <a:off x="6743160" y="6871320"/>
                <a:ext cx="461520" cy="27972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Oval 10"/>
              <p:cNvSpPr/>
              <p:nvPr/>
            </p:nvSpPr>
            <p:spPr>
              <a:xfrm>
                <a:off x="6802920" y="6917400"/>
                <a:ext cx="338400" cy="188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11"/>
              <p:cNvSpPr/>
              <p:nvPr/>
            </p:nvSpPr>
            <p:spPr>
              <a:xfrm>
                <a:off x="6307560" y="6553080"/>
                <a:ext cx="675360" cy="28332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12"/>
              <p:cNvSpPr/>
              <p:nvPr/>
            </p:nvSpPr>
            <p:spPr>
              <a:xfrm>
                <a:off x="6519240" y="7355520"/>
                <a:ext cx="782640" cy="11592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9" name="Freeform 13"/>
              <p:cNvSpPr/>
              <p:nvPr/>
            </p:nvSpPr>
            <p:spPr>
              <a:xfrm>
                <a:off x="6222960" y="6888960"/>
                <a:ext cx="156960" cy="380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0" name="Freeform 14"/>
              <p:cNvSpPr/>
              <p:nvPr/>
            </p:nvSpPr>
            <p:spPr>
              <a:xfrm>
                <a:off x="6296760" y="6605640"/>
                <a:ext cx="1322640" cy="81684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1" name="Freeform 15"/>
              <p:cNvSpPr/>
              <p:nvPr/>
            </p:nvSpPr>
            <p:spPr>
              <a:xfrm>
                <a:off x="7122240" y="6563520"/>
                <a:ext cx="165600" cy="52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2" name="Oval 16"/>
              <p:cNvSpPr/>
              <p:nvPr/>
            </p:nvSpPr>
            <p:spPr>
              <a:xfrm>
                <a:off x="6898320" y="6963120"/>
                <a:ext cx="147600" cy="92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23" name="Group 17"/>
            <p:cNvGrpSpPr/>
            <p:nvPr/>
          </p:nvGrpSpPr>
          <p:grpSpPr>
            <a:xfrm>
              <a:off x="3132360" y="6405120"/>
              <a:ext cx="2867040" cy="1203840"/>
              <a:chOff x="3132360" y="6405120"/>
              <a:chExt cx="2867040" cy="1203840"/>
            </a:xfrm>
          </p:grpSpPr>
          <p:sp>
            <p:nvSpPr>
              <p:cNvPr id="124" name="Oval 18"/>
              <p:cNvSpPr/>
              <p:nvPr/>
            </p:nvSpPr>
            <p:spPr>
              <a:xfrm>
                <a:off x="3999600" y="6939000"/>
                <a:ext cx="1125360" cy="66420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" name="Oval 19"/>
              <p:cNvSpPr/>
              <p:nvPr/>
            </p:nvSpPr>
            <p:spPr>
              <a:xfrm>
                <a:off x="4080960" y="6981480"/>
                <a:ext cx="957600" cy="579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" name="Oval 20"/>
              <p:cNvSpPr/>
              <p:nvPr/>
            </p:nvSpPr>
            <p:spPr>
              <a:xfrm>
                <a:off x="4128480" y="7018200"/>
                <a:ext cx="88344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" name="Oval 21"/>
              <p:cNvSpPr/>
              <p:nvPr/>
            </p:nvSpPr>
            <p:spPr>
              <a:xfrm>
                <a:off x="4176000" y="7050240"/>
                <a:ext cx="783000" cy="454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" name="Oval 22"/>
              <p:cNvSpPr/>
              <p:nvPr/>
            </p:nvSpPr>
            <p:spPr>
              <a:xfrm>
                <a:off x="4206240" y="7064280"/>
                <a:ext cx="728280" cy="4212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" name="Oval 23"/>
              <p:cNvSpPr/>
              <p:nvPr/>
            </p:nvSpPr>
            <p:spPr>
              <a:xfrm>
                <a:off x="4297680" y="7101360"/>
                <a:ext cx="539640" cy="338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" name="Oval 24"/>
              <p:cNvSpPr/>
              <p:nvPr/>
            </p:nvSpPr>
            <p:spPr>
              <a:xfrm>
                <a:off x="4366440" y="7154280"/>
                <a:ext cx="400320" cy="2307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" name="Oval 25"/>
              <p:cNvSpPr/>
              <p:nvPr/>
            </p:nvSpPr>
            <p:spPr>
              <a:xfrm>
                <a:off x="4483080" y="7226640"/>
                <a:ext cx="158040" cy="105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" name="Freeform 26"/>
              <p:cNvSpPr/>
              <p:nvPr/>
            </p:nvSpPr>
            <p:spPr>
              <a:xfrm>
                <a:off x="4558680" y="6741720"/>
                <a:ext cx="791640" cy="32616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" name="Freeform 27"/>
              <p:cNvSpPr/>
              <p:nvPr/>
            </p:nvSpPr>
            <p:spPr>
              <a:xfrm>
                <a:off x="3777840" y="6794280"/>
                <a:ext cx="1572840" cy="814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" name="Freeform 28"/>
              <p:cNvSpPr/>
              <p:nvPr/>
            </p:nvSpPr>
            <p:spPr>
              <a:xfrm>
                <a:off x="3671640" y="6753960"/>
                <a:ext cx="717840" cy="8492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5" name="Freeform 29"/>
              <p:cNvSpPr/>
              <p:nvPr/>
            </p:nvSpPr>
            <p:spPr>
              <a:xfrm>
                <a:off x="5267880" y="7133040"/>
                <a:ext cx="190080" cy="44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" name="Freeform 30"/>
              <p:cNvSpPr/>
              <p:nvPr/>
            </p:nvSpPr>
            <p:spPr>
              <a:xfrm>
                <a:off x="3646800" y="6500160"/>
                <a:ext cx="1467360" cy="26244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7" name="Freeform 31"/>
              <p:cNvSpPr/>
              <p:nvPr/>
            </p:nvSpPr>
            <p:spPr>
              <a:xfrm>
                <a:off x="3292560" y="6796440"/>
                <a:ext cx="301320" cy="8125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8" name="Freeform 32"/>
              <p:cNvSpPr/>
              <p:nvPr/>
            </p:nvSpPr>
            <p:spPr>
              <a:xfrm>
                <a:off x="5204520" y="6616440"/>
                <a:ext cx="635040" cy="992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9" name="Freeform 33"/>
              <p:cNvSpPr/>
              <p:nvPr/>
            </p:nvSpPr>
            <p:spPr>
              <a:xfrm>
                <a:off x="4088160" y="6405120"/>
                <a:ext cx="1900800" cy="749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0" name="Freeform 34"/>
              <p:cNvSpPr/>
              <p:nvPr/>
            </p:nvSpPr>
            <p:spPr>
              <a:xfrm>
                <a:off x="5826960" y="7196400"/>
                <a:ext cx="172440" cy="412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1" name="Freeform 35"/>
              <p:cNvSpPr/>
              <p:nvPr/>
            </p:nvSpPr>
            <p:spPr>
              <a:xfrm>
                <a:off x="3132360" y="6482520"/>
                <a:ext cx="848160" cy="11206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42" name="Group 36"/>
            <p:cNvGrpSpPr/>
            <p:nvPr/>
          </p:nvGrpSpPr>
          <p:grpSpPr>
            <a:xfrm>
              <a:off x="7281000" y="5927040"/>
              <a:ext cx="2382840" cy="1447200"/>
              <a:chOff x="7281000" y="5927040"/>
              <a:chExt cx="2382840" cy="1447200"/>
            </a:xfrm>
          </p:grpSpPr>
          <p:sp>
            <p:nvSpPr>
              <p:cNvPr id="143" name="Freeform 37"/>
              <p:cNvSpPr/>
              <p:nvPr/>
            </p:nvSpPr>
            <p:spPr>
              <a:xfrm>
                <a:off x="7408080" y="6005880"/>
                <a:ext cx="2118240" cy="12891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4" name="Freeform 38"/>
              <p:cNvSpPr/>
              <p:nvPr/>
            </p:nvSpPr>
            <p:spPr>
              <a:xfrm>
                <a:off x="7281000" y="5942520"/>
                <a:ext cx="959400" cy="129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5" name="Freeform 39"/>
              <p:cNvSpPr/>
              <p:nvPr/>
            </p:nvSpPr>
            <p:spPr>
              <a:xfrm>
                <a:off x="8453880" y="5927040"/>
                <a:ext cx="1070640" cy="44424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6" name="Freeform 40"/>
              <p:cNvSpPr/>
              <p:nvPr/>
            </p:nvSpPr>
            <p:spPr>
              <a:xfrm>
                <a:off x="9252720" y="7071120"/>
                <a:ext cx="127080" cy="9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7" name="Freeform 41"/>
              <p:cNvSpPr/>
              <p:nvPr/>
            </p:nvSpPr>
            <p:spPr>
              <a:xfrm>
                <a:off x="7945920" y="7184160"/>
                <a:ext cx="1243440" cy="190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" name="Freeform 42"/>
              <p:cNvSpPr/>
              <p:nvPr/>
            </p:nvSpPr>
            <p:spPr>
              <a:xfrm>
                <a:off x="9411480" y="6450120"/>
                <a:ext cx="252360" cy="596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9" name="Freeform 43"/>
              <p:cNvSpPr/>
              <p:nvPr/>
            </p:nvSpPr>
            <p:spPr>
              <a:xfrm>
                <a:off x="8930160" y="6392160"/>
                <a:ext cx="146160" cy="1584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0" name="Freeform 44"/>
              <p:cNvSpPr/>
              <p:nvPr/>
            </p:nvSpPr>
            <p:spPr>
              <a:xfrm>
                <a:off x="7840080" y="6265080"/>
                <a:ext cx="1264680" cy="759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1" name="Freeform 45"/>
              <p:cNvSpPr/>
              <p:nvPr/>
            </p:nvSpPr>
            <p:spPr>
              <a:xfrm>
                <a:off x="7675920" y="6196320"/>
                <a:ext cx="1594440" cy="939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" name="Freeform 46"/>
              <p:cNvSpPr/>
              <p:nvPr/>
            </p:nvSpPr>
            <p:spPr>
              <a:xfrm>
                <a:off x="8049960" y="6164640"/>
                <a:ext cx="643680" cy="116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" name="Freeform 47"/>
              <p:cNvSpPr/>
              <p:nvPr/>
            </p:nvSpPr>
            <p:spPr>
              <a:xfrm>
                <a:off x="7872120" y="6275880"/>
                <a:ext cx="117720" cy="8424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4" name="Oval 48"/>
              <p:cNvSpPr/>
              <p:nvPr/>
            </p:nvSpPr>
            <p:spPr>
              <a:xfrm>
                <a:off x="8018280" y="6364080"/>
                <a:ext cx="913320" cy="5641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" name="Oval 49"/>
              <p:cNvSpPr/>
              <p:nvPr/>
            </p:nvSpPr>
            <p:spPr>
              <a:xfrm>
                <a:off x="8074800" y="6402600"/>
                <a:ext cx="784440" cy="47772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6" name="Oval 50"/>
              <p:cNvSpPr/>
              <p:nvPr/>
            </p:nvSpPr>
            <p:spPr>
              <a:xfrm>
                <a:off x="8136360" y="6437880"/>
                <a:ext cx="673920" cy="4107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7" name="Oval 51"/>
              <p:cNvSpPr/>
              <p:nvPr/>
            </p:nvSpPr>
            <p:spPr>
              <a:xfrm>
                <a:off x="8208720" y="6487560"/>
                <a:ext cx="525240" cy="3117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8" name="Oval 52"/>
              <p:cNvSpPr/>
              <p:nvPr/>
            </p:nvSpPr>
            <p:spPr>
              <a:xfrm>
                <a:off x="8272440" y="6522840"/>
                <a:ext cx="391320" cy="246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9" name="Oval 53"/>
              <p:cNvSpPr/>
              <p:nvPr/>
            </p:nvSpPr>
            <p:spPr>
              <a:xfrm>
                <a:off x="8358840" y="6577560"/>
                <a:ext cx="221760" cy="1425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54"/>
            <p:cNvGrpSpPr/>
            <p:nvPr/>
          </p:nvGrpSpPr>
          <p:grpSpPr>
            <a:xfrm>
              <a:off x="9312840" y="5334480"/>
              <a:ext cx="749160" cy="454320"/>
              <a:chOff x="9312840" y="5334480"/>
              <a:chExt cx="749160" cy="454320"/>
            </a:xfrm>
          </p:grpSpPr>
          <p:sp>
            <p:nvSpPr>
              <p:cNvPr id="161" name="Freeform 55"/>
              <p:cNvSpPr/>
              <p:nvPr/>
            </p:nvSpPr>
            <p:spPr>
              <a:xfrm>
                <a:off x="9312840" y="5619600"/>
                <a:ext cx="673560" cy="169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2" name="Freeform 56"/>
              <p:cNvSpPr/>
              <p:nvPr/>
            </p:nvSpPr>
            <p:spPr>
              <a:xfrm>
                <a:off x="9374760" y="5334480"/>
                <a:ext cx="451440" cy="9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3" name="Freeform 57"/>
              <p:cNvSpPr/>
              <p:nvPr/>
            </p:nvSpPr>
            <p:spPr>
              <a:xfrm>
                <a:off x="9956520" y="5408280"/>
                <a:ext cx="105480" cy="27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4" name="Freeform 58"/>
              <p:cNvSpPr/>
              <p:nvPr/>
            </p:nvSpPr>
            <p:spPr>
              <a:xfrm>
                <a:off x="9485280" y="5725800"/>
                <a:ext cx="338400" cy="313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5" name="Freeform 59"/>
              <p:cNvSpPr/>
              <p:nvPr/>
            </p:nvSpPr>
            <p:spPr>
              <a:xfrm>
                <a:off x="9358560" y="5365800"/>
                <a:ext cx="276480" cy="3279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6" name="Freeform 60"/>
              <p:cNvSpPr/>
              <p:nvPr/>
            </p:nvSpPr>
            <p:spPr>
              <a:xfrm>
                <a:off x="9681480" y="5365800"/>
                <a:ext cx="327600" cy="37368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7" name="Freeform 61"/>
              <p:cNvSpPr/>
              <p:nvPr/>
            </p:nvSpPr>
            <p:spPr>
              <a:xfrm>
                <a:off x="9427320" y="5394240"/>
                <a:ext cx="527040" cy="3276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68" name="Group 62"/>
              <p:cNvGrpSpPr/>
              <p:nvPr/>
            </p:nvGrpSpPr>
            <p:grpSpPr>
              <a:xfrm>
                <a:off x="9491040" y="5441760"/>
                <a:ext cx="399960" cy="232200"/>
                <a:chOff x="9491040" y="5441760"/>
                <a:chExt cx="399960" cy="232200"/>
              </a:xfrm>
            </p:grpSpPr>
            <p:sp>
              <p:nvSpPr>
                <p:cNvPr id="169" name="Oval 63"/>
                <p:cNvSpPr/>
                <p:nvPr/>
              </p:nvSpPr>
              <p:spPr>
                <a:xfrm>
                  <a:off x="9491040" y="5441760"/>
                  <a:ext cx="399960" cy="23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70" name="Oval 64"/>
                <p:cNvSpPr/>
                <p:nvPr/>
              </p:nvSpPr>
              <p:spPr>
                <a:xfrm>
                  <a:off x="9529560" y="5466240"/>
                  <a:ext cx="320400" cy="17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71" name="Oval 65"/>
                <p:cNvSpPr/>
                <p:nvPr/>
              </p:nvSpPr>
              <p:spPr>
                <a:xfrm>
                  <a:off x="9580680" y="5483880"/>
                  <a:ext cx="213120" cy="144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72" name="Oval 66"/>
                <p:cNvSpPr/>
                <p:nvPr/>
              </p:nvSpPr>
              <p:spPr>
                <a:xfrm>
                  <a:off x="9626400" y="5511960"/>
                  <a:ext cx="133920" cy="8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240" bIns="12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1428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66840" indent="-250920">
              <a:spcBef>
                <a:spcPts val="901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774800" indent="-250920">
              <a:spcBef>
                <a:spcPts val="90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282760" indent="-250920">
              <a:spcBef>
                <a:spcPts val="901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282760" indent="-250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282760" indent="-250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3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2009-8AED-4DDE-B147-032A3AE3C08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4"/>
          </p:nvPr>
        </p:nvSpPr>
        <p:spPr>
          <a:xfrm>
            <a:off x="3936600" y="6933960"/>
            <a:ext cx="2057400" cy="5094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6BD6-E1A7-43F9-8E63-A5331DFCEB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594560" y="6705720"/>
            <a:ext cx="1600200" cy="725400"/>
            <a:chOff x="7594560" y="6705720"/>
            <a:chExt cx="1600200" cy="725400"/>
          </a:xfrm>
        </p:grpSpPr>
        <p:pic>
          <p:nvPicPr>
            <p:cNvPr id="178" name="Picture 4" descr=""/>
            <p:cNvPicPr/>
            <p:nvPr/>
          </p:nvPicPr>
          <p:blipFill>
            <a:blip r:embed="rId3"/>
            <a:stretch/>
          </p:blipFill>
          <p:spPr>
            <a:xfrm>
              <a:off x="7594560" y="6705720"/>
              <a:ext cx="16002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PlaceHolder 5"/>
            <p:cNvSpPr>
              <a:spLocks noGrp="1"/>
            </p:cNvSpPr>
            <p:nvPr>
              <p:ph type="ftr" idx="5"/>
            </p:nvPr>
          </p:nvSpPr>
          <p:spPr>
            <a:xfrm>
              <a:off x="7594560" y="6705720"/>
              <a:ext cx="1600200" cy="72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ichigan.gov/mde/0,1607,7-140-28735_33424-,00.html" TargetMode="External"/><Relationship Id="rId2" Type="http://schemas.openxmlformats.org/officeDocument/2006/relationships/hyperlink" Target="http://www.michigan.gov/mde/0,1607,7-140-28735_33424-,00.html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3936960" y="7010280"/>
            <a:ext cx="2057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1760" y="2133720"/>
            <a:ext cx="8636040" cy="2209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One Common Voice – One Plan</a:t>
            </a: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6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chool Improvement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Module 5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523880" y="4647960"/>
            <a:ext cx="7112160" cy="1904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Implement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nitor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valuate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33C4D-A09E-47BD-A0DD-5AD77354A0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73656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will we monitor our progres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inue to or begin to collect data to review and monitor plan effectivene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view and adjust plan continually, if needed, to ensure implementation/ability to moni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termine who we want to communicate with along the way (staff, parents, board, etc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termine how we are going to communicate progress with all stakehol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-114480" y="228600"/>
            <a:ext cx="103888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5760" indent="-3412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Monitor Plan Implement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5BEBB-C583-4200-8F27-D6C85CA66A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411120" y="304920"/>
            <a:ext cx="93376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Monitor Plan Implement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888840" y="1752480"/>
            <a:ext cx="83822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formative assessment for learning measur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here to scheduled progress monitoring meeting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signate staff to monitor and cheerle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forms to help organize data and information being monitore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dentify what processes are work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dentify what processes are NOT work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4693F-4C44-4C18-9128-B59647E160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06400" y="290520"/>
            <a:ext cx="866160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hecking for Understan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955880" y="2743200"/>
            <a:ext cx="68580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at are your questions about implementing and monitoring the plan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58981-472F-4807-8FBA-5FD70C9126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7960" y="2286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hool Improvement Planning Proces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814680" y="1262880"/>
            <a:ext cx="8685000" cy="5668200"/>
            <a:chOff x="814680" y="1262880"/>
            <a:chExt cx="8685000" cy="5668200"/>
          </a:xfrm>
        </p:grpSpPr>
        <p:sp>
          <p:nvSpPr>
            <p:cNvPr id="314" name="_s90117"/>
            <p:cNvSpPr/>
            <p:nvPr/>
          </p:nvSpPr>
          <p:spPr>
            <a:xfrm flipH="1">
              <a:off x="298440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5" name="_s90118"/>
            <p:cNvSpPr/>
            <p:nvPr/>
          </p:nvSpPr>
          <p:spPr>
            <a:xfrm>
              <a:off x="814680" y="3350160"/>
              <a:ext cx="2171160" cy="1376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Do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mplement and Monitor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valuate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6" name="_s90119"/>
            <p:cNvSpPr/>
            <p:nvPr/>
          </p:nvSpPr>
          <p:spPr>
            <a:xfrm>
              <a:off x="5156640" y="472608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7" name="_s90120"/>
            <p:cNvSpPr/>
            <p:nvPr/>
          </p:nvSpPr>
          <p:spPr>
            <a:xfrm>
              <a:off x="4071240" y="54147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evelop Action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lvl="1" marL="507960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8" name="_s90121"/>
            <p:cNvSpPr/>
            <p:nvPr/>
          </p:nvSpPr>
          <p:spPr>
            <a:xfrm>
              <a:off x="624168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9" name="_s90122"/>
            <p:cNvSpPr/>
            <p:nvPr/>
          </p:nvSpPr>
          <p:spPr>
            <a:xfrm>
              <a:off x="732816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0" name="_s90123"/>
            <p:cNvSpPr/>
            <p:nvPr/>
          </p:nvSpPr>
          <p:spPr>
            <a:xfrm flipV="1">
              <a:off x="5156640" y="266076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1" name="_s90124"/>
            <p:cNvSpPr/>
            <p:nvPr/>
          </p:nvSpPr>
          <p:spPr>
            <a:xfrm>
              <a:off x="4071240" y="1285560"/>
              <a:ext cx="2171520" cy="1376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ather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etting Ready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ollect School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Build School Profile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" name="_s90125"/>
            <p:cNvSpPr/>
            <p:nvPr/>
          </p:nvSpPr>
          <p:spPr>
            <a:xfrm>
              <a:off x="407124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Stud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Achievem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604800">
              <a:off x="6306120" y="1483560"/>
              <a:ext cx="2129040" cy="2049840"/>
            </a:xfrm>
            <a:custGeom>
              <a:avLst/>
              <a:gdLst>
                <a:gd name="textAreaLeft" fmla="*/ 0 w 2129040"/>
                <a:gd name="textAreaRight" fmla="*/ 2129400 w 2129040"/>
                <a:gd name="textAreaTop" fmla="*/ 0 h 2049840"/>
                <a:gd name="textAreaBottom" fmla="*/ 2050200 h 204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9335768"/>
                  <a:lnTo>
                    <a:pt x="965" y="6338"/>
                  </a:lnTo>
                  <a:arcTo wR="10800" hR="10800" stAng="-9335768" swAng="9335768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6195600">
              <a:off x="6220440" y="4298400"/>
              <a:ext cx="2045880" cy="2086920"/>
            </a:xfrm>
            <a:custGeom>
              <a:avLst/>
              <a:gdLst>
                <a:gd name="textAreaLeft" fmla="*/ 0 w 2045880"/>
                <a:gd name="textAreaRight" fmla="*/ 2046240 w 2045880"/>
                <a:gd name="textAreaTop" fmla="*/ 0 h 2086920"/>
                <a:gd name="textAreaBottom" fmla="*/ 2086920 h 208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7058" y="10318"/>
                  </a:moveTo>
                  <a:arcTo wR="-3773" hR="-3773" stAng="-10359732" swAng="-8044879"/>
                  <a:lnTo>
                    <a:pt x="4339" y="2146"/>
                  </a:lnTo>
                  <a:arcTo wR="10800" hR="10800" stAng="-7604611" swAng="8044879"/>
                  <a:lnTo>
                    <a:pt x="24189" y="12524"/>
                  </a:lnTo>
                  <a:lnTo>
                    <a:pt x="17233" y="17893"/>
                  </a:lnTo>
                  <a:lnTo>
                    <a:pt x="11864" y="10937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7413800">
              <a:off x="1476000" y="1735200"/>
              <a:ext cx="2341800" cy="1914840"/>
            </a:xfrm>
            <a:custGeom>
              <a:avLst/>
              <a:gdLst>
                <a:gd name="textAreaLeft" fmla="*/ 0 w 2341800"/>
                <a:gd name="textAreaRight" fmla="*/ 2342160 w 23418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906234"/>
                  <a:lnTo>
                    <a:pt x="3606" y="2745"/>
                  </a:lnTo>
                  <a:arcTo wR="10800" hR="10800" stAng="-7906234" swAng="7906234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9086400">
              <a:off x="1959480" y="4498560"/>
              <a:ext cx="1768680" cy="2139480"/>
            </a:xfrm>
            <a:custGeom>
              <a:avLst/>
              <a:gdLst>
                <a:gd name="textAreaLeft" fmla="*/ 0 w 1768680"/>
                <a:gd name="textAreaRight" fmla="*/ 1769040 w 1768680"/>
                <a:gd name="textAreaTop" fmla="*/ 0 h 2139480"/>
                <a:gd name="textAreaBottom" fmla="*/ 2139840 h 213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7669" y="9249"/>
                  </a:moveTo>
                  <a:arcTo wR="-3494" hR="-3494" stAng="-9218858" swAng="-8879301"/>
                  <a:lnTo>
                    <a:pt x="5135" y="1605"/>
                  </a:lnTo>
                  <a:arcTo wR="10800" hR="10800" stAng="-7298158" swAng="8879301"/>
                  <a:lnTo>
                    <a:pt x="22897" y="16793"/>
                  </a:lnTo>
                  <a:lnTo>
                    <a:pt x="14384" y="19665"/>
                  </a:lnTo>
                  <a:lnTo>
                    <a:pt x="11511" y="11152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83520" y="3863880"/>
              <a:ext cx="1459440" cy="487800"/>
            </a:xfrm>
            <a:prstGeom prst="leftRightArrow">
              <a:avLst>
                <a:gd name="adj1" fmla="val 50000"/>
                <a:gd name="adj2" fmla="val 5956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8" name="_s1032"/>
            <p:cNvSpPr/>
            <p:nvPr/>
          </p:nvSpPr>
          <p:spPr>
            <a:xfrm>
              <a:off x="6249600" y="4156560"/>
              <a:ext cx="10875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5400000">
              <a:off x="4666680" y="4859280"/>
              <a:ext cx="975600" cy="546120"/>
            </a:xfrm>
            <a:prstGeom prst="leftRightArrow">
              <a:avLst>
                <a:gd name="adj1" fmla="val 50000"/>
                <a:gd name="adj2" fmla="val 35563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30" name=""/>
          <p:cNvSpPr/>
          <p:nvPr/>
        </p:nvSpPr>
        <p:spPr>
          <a:xfrm flipH="1" rot="5400000">
            <a:off x="4714920" y="2726280"/>
            <a:ext cx="957240" cy="533160"/>
          </a:xfrm>
          <a:prstGeom prst="leftRightArrow">
            <a:avLst>
              <a:gd name="adj1" fmla="val 50000"/>
              <a:gd name="adj2" fmla="val 35742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5994360" y="3886200"/>
            <a:ext cx="1447920" cy="457200"/>
          </a:xfrm>
          <a:prstGeom prst="leftRightArrow">
            <a:avLst>
              <a:gd name="adj1" fmla="val 50000"/>
              <a:gd name="adj2" fmla="val 63045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7213680" y="3429000"/>
            <a:ext cx="2361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ud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 Goals and Measurable Objectiv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Best Practi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E0255-5FA0-42EE-BCBA-8001E22FBE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694800" y="2133720"/>
            <a:ext cx="85662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Did people follow through with their responsibilities in the action steps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Measure progress of plan implementation utilizing process/measures identified in the action pla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Have the measures to assess effectiveness of the plan been implemented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Are additional measures needed to more effectively monitor plan implementation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041480" y="304920"/>
            <a:ext cx="86104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ion of Implement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5A3DD-3913-4554-8809-0808842472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771120" y="2133720"/>
            <a:ext cx="8566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Even the best plans meet with unpredictable obstacles and distraction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If implementation of some action steps are problematic, ask why, and modify to increase the likelihood of effective implementa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Determine when these changes/modifications should be start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1117440" y="304920"/>
            <a:ext cx="81536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ion of Implement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19B09-12BC-43E6-97E3-ECE872B9B9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736560" y="1905120"/>
            <a:ext cx="861048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Determine…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y modifications or changes that will need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 made in the implementation of the pl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ased on the evalu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additional measures are needed, such as perception data from focus groups, conversations with staff, and/or additional surve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965160" y="228600"/>
            <a:ext cx="83818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ion of Implement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TextBox 4"/>
          <p:cNvSpPr/>
          <p:nvPr/>
        </p:nvSpPr>
        <p:spPr>
          <a:xfrm>
            <a:off x="660240" y="5334120"/>
            <a:ext cx="906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This may be a great time to conduct focus groups or to re-administer perception surveys to staff, parents, and student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C2295-AA4C-4038-A596-56523859D0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965160" y="304920"/>
            <a:ext cx="838188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Moving from Evaluation of Implementation to Evaluation of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1041480" y="4343400"/>
            <a:ext cx="754704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will we know that the a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eps are making a difference in student achievemen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584280" y="3048120"/>
            <a:ext cx="842652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43040" indent="-28584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itor the progression of the action plan and its impact on student achievemen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D090B-A0C6-4A48-8C71-3070DEA8CD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60240" y="2374560"/>
            <a:ext cx="876312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School Improvement Tea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 role shifts from driving the process to helping determine the degree to which the strategies and activities are making a difference in student achievement and how to strengthen the various school improvement initiati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1455840" y="304920"/>
            <a:ext cx="7157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e the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FCDAB-EBC1-401E-A663-4FFEC0FA03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59880" y="2286000"/>
            <a:ext cx="853452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view progress in the Comprehensive Needs Assessment School Data Analysis and School Process Analysis. Use the School Summary Report to assess the overall impact of the school improvement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team collects and analyzes data from the state, national, and classroom-based assessments, and other measures, to determine if school improvement goals were met, and if the action plans were successful in improving student achiev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1455840" y="304920"/>
            <a:ext cx="7157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e the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561A5-53D9-40A3-9FF8-1721A5273E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7960" y="2286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br>
              <a:rPr sz="4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chool Improvement Planning Proces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14680" y="1262880"/>
            <a:ext cx="8685000" cy="5668200"/>
            <a:chOff x="814680" y="1262880"/>
            <a:chExt cx="8685000" cy="5668200"/>
          </a:xfrm>
        </p:grpSpPr>
        <p:sp>
          <p:nvSpPr>
            <p:cNvPr id="228" name="_s88069"/>
            <p:cNvSpPr/>
            <p:nvPr/>
          </p:nvSpPr>
          <p:spPr>
            <a:xfrm flipH="1">
              <a:off x="298440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_s88070"/>
            <p:cNvSpPr/>
            <p:nvPr/>
          </p:nvSpPr>
          <p:spPr>
            <a:xfrm>
              <a:off x="814680" y="3350160"/>
              <a:ext cx="2171160" cy="1376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Do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mplement and Monitor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valuate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" name="_s88071"/>
            <p:cNvSpPr/>
            <p:nvPr/>
          </p:nvSpPr>
          <p:spPr>
            <a:xfrm>
              <a:off x="5156640" y="472608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" name="_s88072"/>
            <p:cNvSpPr/>
            <p:nvPr/>
          </p:nvSpPr>
          <p:spPr>
            <a:xfrm>
              <a:off x="4071240" y="54147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evelop Action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lvl="1" marL="507960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" name="_s88073"/>
            <p:cNvSpPr/>
            <p:nvPr/>
          </p:nvSpPr>
          <p:spPr>
            <a:xfrm>
              <a:off x="624168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" name="_s88074"/>
            <p:cNvSpPr/>
            <p:nvPr/>
          </p:nvSpPr>
          <p:spPr>
            <a:xfrm>
              <a:off x="732816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4" name="_s88075"/>
            <p:cNvSpPr/>
            <p:nvPr/>
          </p:nvSpPr>
          <p:spPr>
            <a:xfrm flipV="1">
              <a:off x="5156640" y="266076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5" name="_s88076"/>
            <p:cNvSpPr/>
            <p:nvPr/>
          </p:nvSpPr>
          <p:spPr>
            <a:xfrm>
              <a:off x="4071240" y="1285560"/>
              <a:ext cx="2171520" cy="1376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ather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etting Ready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ollect School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Build School Profile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" name="_s88077"/>
            <p:cNvSpPr/>
            <p:nvPr/>
          </p:nvSpPr>
          <p:spPr>
            <a:xfrm>
              <a:off x="407124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Stud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Achievem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604800">
              <a:off x="6306120" y="1483560"/>
              <a:ext cx="2129040" cy="2049840"/>
            </a:xfrm>
            <a:custGeom>
              <a:avLst/>
              <a:gdLst>
                <a:gd name="textAreaLeft" fmla="*/ 0 w 2129040"/>
                <a:gd name="textAreaRight" fmla="*/ 2129400 w 2129040"/>
                <a:gd name="textAreaTop" fmla="*/ 0 h 2049840"/>
                <a:gd name="textAreaBottom" fmla="*/ 2050200 h 204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9335768"/>
                  <a:lnTo>
                    <a:pt x="965" y="6338"/>
                  </a:lnTo>
                  <a:arcTo wR="10800" hR="10800" stAng="-9335768" swAng="9335768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6195600">
              <a:off x="6220440" y="4298400"/>
              <a:ext cx="2045880" cy="2086920"/>
            </a:xfrm>
            <a:custGeom>
              <a:avLst/>
              <a:gdLst>
                <a:gd name="textAreaLeft" fmla="*/ 0 w 2045880"/>
                <a:gd name="textAreaRight" fmla="*/ 2046240 w 2045880"/>
                <a:gd name="textAreaTop" fmla="*/ 0 h 2086920"/>
                <a:gd name="textAreaBottom" fmla="*/ 2086920 h 208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7058" y="10318"/>
                  </a:moveTo>
                  <a:arcTo wR="-3773" hR="-3773" stAng="-10359732" swAng="-8044879"/>
                  <a:lnTo>
                    <a:pt x="4339" y="2146"/>
                  </a:lnTo>
                  <a:arcTo wR="10800" hR="10800" stAng="-7604611" swAng="8044879"/>
                  <a:lnTo>
                    <a:pt x="24189" y="12524"/>
                  </a:lnTo>
                  <a:lnTo>
                    <a:pt x="17233" y="17893"/>
                  </a:lnTo>
                  <a:lnTo>
                    <a:pt x="11864" y="10937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7413800">
              <a:off x="1476000" y="1735200"/>
              <a:ext cx="2341800" cy="1914840"/>
            </a:xfrm>
            <a:custGeom>
              <a:avLst/>
              <a:gdLst>
                <a:gd name="textAreaLeft" fmla="*/ 0 w 2341800"/>
                <a:gd name="textAreaRight" fmla="*/ 2342160 w 23418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906234"/>
                  <a:lnTo>
                    <a:pt x="3606" y="2745"/>
                  </a:lnTo>
                  <a:arcTo wR="10800" hR="10800" stAng="-7906234" swAng="7906234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9086400">
              <a:off x="1959480" y="4498560"/>
              <a:ext cx="1768680" cy="2139480"/>
            </a:xfrm>
            <a:custGeom>
              <a:avLst/>
              <a:gdLst>
                <a:gd name="textAreaLeft" fmla="*/ 0 w 1768680"/>
                <a:gd name="textAreaRight" fmla="*/ 1769040 w 1768680"/>
                <a:gd name="textAreaTop" fmla="*/ 0 h 2139480"/>
                <a:gd name="textAreaBottom" fmla="*/ 2139840 h 213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7669" y="9249"/>
                  </a:moveTo>
                  <a:arcTo wR="-3494" hR="-3494" stAng="-9218858" swAng="-8879301"/>
                  <a:lnTo>
                    <a:pt x="5135" y="1605"/>
                  </a:lnTo>
                  <a:arcTo wR="10800" hR="10800" stAng="-7298158" swAng="8879301"/>
                  <a:lnTo>
                    <a:pt x="22897" y="16793"/>
                  </a:lnTo>
                  <a:lnTo>
                    <a:pt x="14384" y="19665"/>
                  </a:lnTo>
                  <a:lnTo>
                    <a:pt x="11511" y="11152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83520" y="3863880"/>
              <a:ext cx="1459440" cy="487800"/>
            </a:xfrm>
            <a:prstGeom prst="leftRightArrow">
              <a:avLst>
                <a:gd name="adj1" fmla="val 50000"/>
                <a:gd name="adj2" fmla="val 5956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_s1032"/>
            <p:cNvSpPr/>
            <p:nvPr/>
          </p:nvSpPr>
          <p:spPr>
            <a:xfrm>
              <a:off x="6249600" y="4156560"/>
              <a:ext cx="10875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5400000">
              <a:off x="4666680" y="4859280"/>
              <a:ext cx="975600" cy="546120"/>
            </a:xfrm>
            <a:prstGeom prst="leftRightArrow">
              <a:avLst>
                <a:gd name="adj1" fmla="val 50000"/>
                <a:gd name="adj2" fmla="val 35563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4" name=""/>
          <p:cNvSpPr/>
          <p:nvPr/>
        </p:nvSpPr>
        <p:spPr>
          <a:xfrm flipH="1" rot="5400000">
            <a:off x="4714920" y="2726280"/>
            <a:ext cx="957240" cy="533160"/>
          </a:xfrm>
          <a:prstGeom prst="leftRightArrow">
            <a:avLst>
              <a:gd name="adj1" fmla="val 50000"/>
              <a:gd name="adj2" fmla="val 35742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5994360" y="3886200"/>
            <a:ext cx="1447920" cy="457200"/>
          </a:xfrm>
          <a:prstGeom prst="leftRightArrow">
            <a:avLst>
              <a:gd name="adj1" fmla="val 50000"/>
              <a:gd name="adj2" fmla="val 63045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7213680" y="3429000"/>
            <a:ext cx="2361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ud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 Goals and Measurable Objectiv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Best Practi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83D24-C001-4096-8F30-574E406D3A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812880" y="243792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s student achievement improving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close did the school come to the measurable goal objectives that were s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e there gaps in the performance of any subgroup(s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455840" y="304920"/>
            <a:ext cx="7157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e the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2800A-E5A8-4CAA-9B62-62F7C285C0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36560" y="243792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is also critical that the School Improvement Team structure opportunities to celebrate success, no matter how s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elebrating successes reinforces valued performance and reminds the school community that however challenging, school improvement results in improved academic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1455840" y="304920"/>
            <a:ext cx="7157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e the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AAE00-A669-4F80-AE27-95DC774FE4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Text Box 18"/>
          <p:cNvSpPr/>
          <p:nvPr/>
        </p:nvSpPr>
        <p:spPr>
          <a:xfrm>
            <a:off x="679320" y="228600"/>
            <a:ext cx="86392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e the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507960" y="1905120"/>
          <a:ext cx="9220320" cy="4682880"/>
        </p:xfrm>
        <a:graphic>
          <a:graphicData uri="http://schemas.openxmlformats.org/drawingml/2006/table">
            <a:tbl>
              <a:tblPr/>
              <a:tblGrid>
                <a:gridCol w="9220320"/>
              </a:tblGrid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tudent Performance Goal area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pecific skills to be learned by the student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bjective (s) to support this goal area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ere all the strategies developed to support this objective implemented?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f not, why not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ere all activities developed to support this strategy implemented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f not, why not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ere the identified resources available and utilized to support this goal area?  Yes   N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f not, why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oes summative student achievement data indicate that this objective has been met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Has the school/district met AYP in this content area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Has each subgroup met AYP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f not, what progress has been demonstrated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hat barriers or challenges have occurred since the plan was written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hat steps should be taken to address these barriers or challenges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oes the School Improvement Plan need to be adjusted to reflect any of the above information?  If so how will it be adjusted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20ABF-F1BC-45C5-8411-3647900C67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964800" y="2057040"/>
            <a:ext cx="8372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The process is cyclical, and evaluation data should inform the next cycle of planning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The ultimate goal is to have improvement strategies take hold and become so internalized that they become part of the school cultur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907920" y="304920"/>
            <a:ext cx="80391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Plan Evalu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7E6FD-6D30-4AD8-82B7-29684086B6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847440" y="1600200"/>
            <a:ext cx="8566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ontinuous improvement means there are always other ways to improve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easure the effectiveness of your strategies based on the School Summary Repor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ring the planning process full circle –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do we continue to d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do we stop do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do we need to “tweak”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e School Improvement Team ca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ve on to new goals when original goals are achiev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group, revise the action plan, and continue with the process heading into the following y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907920" y="254160"/>
            <a:ext cx="80391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Plan Evalu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983FD-C575-4374-B2C9-188FEB0CCC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06400" y="290520"/>
            <a:ext cx="866160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br>
              <a:rPr sz="45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hecking for Understan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1346040" y="2895480"/>
            <a:ext cx="800100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re your questions about evaluating the plan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88319-2769-401F-B439-DAF7F3C05C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1200" y="219240"/>
            <a:ext cx="902808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Common Voice – One Pla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hecking for Master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812520" y="16002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e possess skill in the use of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Getting ready to begin the school improvement proces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000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ission and V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ollecting, selecting data, and building a profil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nalyzing data and identifying goals and measurable goal objectiv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dentifying and prioritizing school improvement goa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Using research to identify and select improvement strategies and practic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eveloping an action pla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nitoring implementation of the pla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valuating the impact of the plan on student achieveme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26264-722C-45B9-A385-44B9009AD76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5" name="Picture 8" descr=""/>
          <p:cNvPicPr/>
          <p:nvPr/>
        </p:nvPicPr>
        <p:blipFill>
          <a:blip r:embed="rId2"/>
          <a:stretch/>
        </p:blipFill>
        <p:spPr>
          <a:xfrm>
            <a:off x="2708280" y="270504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9" descr=""/>
          <p:cNvPicPr/>
          <p:nvPr/>
        </p:nvPicPr>
        <p:blipFill>
          <a:blip r:embed="rId3"/>
          <a:stretch/>
        </p:blipFill>
        <p:spPr>
          <a:xfrm>
            <a:off x="419040" y="2705040"/>
            <a:ext cx="2298600" cy="22957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0" descr=""/>
          <p:cNvPicPr/>
          <p:nvPr/>
        </p:nvPicPr>
        <p:blipFill>
          <a:blip r:embed="rId4"/>
          <a:stretch/>
        </p:blipFill>
        <p:spPr>
          <a:xfrm>
            <a:off x="2708280" y="5019840"/>
            <a:ext cx="2295360" cy="22953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5"/>
          <a:stretch/>
        </p:blipFill>
        <p:spPr>
          <a:xfrm>
            <a:off x="419040" y="4991040"/>
            <a:ext cx="2298600" cy="229572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12"/>
          <p:cNvSpPr/>
          <p:nvPr/>
        </p:nvSpPr>
        <p:spPr>
          <a:xfrm>
            <a:off x="1117440" y="2895480"/>
            <a:ext cx="8229600" cy="26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However noble, sophisticated, or enlightened proposals for </a:t>
            </a:r>
            <a:r>
              <a:rPr b="0" lang="en-US" sz="3100" spc="-1" strike="noStrike">
                <a:solidFill>
                  <a:srgbClr val="ff9900"/>
                </a:solidFill>
                <a:latin typeface="Verdana"/>
              </a:rPr>
              <a:t>change</a:t>
            </a: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lang="en-US" sz="3100" spc="-1" strike="noStrike">
                <a:solidFill>
                  <a:srgbClr val="ff9900"/>
                </a:solidFill>
                <a:latin typeface="Verdana"/>
              </a:rPr>
              <a:t>improvement</a:t>
            </a: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 might be, they come to nothing if teachers don’t adopt them in their own classrooms and if they don’t translate them into </a:t>
            </a:r>
            <a:r>
              <a:rPr b="0" lang="en-US" sz="3100" spc="-1" strike="noStrike">
                <a:solidFill>
                  <a:srgbClr val="ff9900"/>
                </a:solidFill>
                <a:latin typeface="Verdana"/>
              </a:rPr>
              <a:t>effective classroom practices</a:t>
            </a: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1270080" y="1905120"/>
            <a:ext cx="78483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Text Box 13"/>
          <p:cNvSpPr/>
          <p:nvPr/>
        </p:nvSpPr>
        <p:spPr>
          <a:xfrm>
            <a:off x="888840" y="457200"/>
            <a:ext cx="678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2" name="Picture 14" descr="j0439433[1]"/>
          <p:cNvPicPr/>
          <p:nvPr/>
        </p:nvPicPr>
        <p:blipFill>
          <a:blip r:embed="rId6">
            <a:lum bright="-30000"/>
          </a:blip>
          <a:stretch/>
        </p:blipFill>
        <p:spPr>
          <a:xfrm>
            <a:off x="279360" y="304920"/>
            <a:ext cx="2057400" cy="136836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5"/>
          <p:cNvSpPr/>
          <p:nvPr/>
        </p:nvSpPr>
        <p:spPr>
          <a:xfrm>
            <a:off x="2778120" y="793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4" name="Picture 16" descr="MPj04008320000[1]"/>
          <p:cNvPicPr/>
          <p:nvPr/>
        </p:nvPicPr>
        <p:blipFill>
          <a:blip r:embed="rId7"/>
          <a:stretch/>
        </p:blipFill>
        <p:spPr>
          <a:xfrm>
            <a:off x="2336760" y="304920"/>
            <a:ext cx="2022480" cy="134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4B616-1DD0-4AAB-89F1-B425C842AF7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3936960" y="7162920"/>
            <a:ext cx="20574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7600" y="304560"/>
            <a:ext cx="9055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br>
              <a:rPr sz="4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 Overview and Vocabular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431640" y="1828800"/>
            <a:ext cx="4800600" cy="4362840"/>
          </a:xfrm>
          <a:prstGeom prst="rect">
            <a:avLst/>
          </a:prstGeom>
          <a:gradFill rotWithShape="0">
            <a:gsLst>
              <a:gs pos="0">
                <a:srgbClr val="a0a000"/>
              </a:gs>
              <a:gs pos="100000">
                <a:srgbClr val="ffff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Required Annual Evaluation of NCLB and PA 25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The Big Picture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Plan Implemen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Monitor Plan Implemen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Evaluation of Plan Implemen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Evaluation of the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5689440" y="2349360"/>
            <a:ext cx="4038840" cy="3684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ocabul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rehensive Needs Assessment (CNA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ublic Act 25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nsolidated Gra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EA Planning Cyc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nnual Education Repor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CF4AF-A088-4E5F-A26F-5C0B369879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3936960" y="7162920"/>
            <a:ext cx="20574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64800" y="2209680"/>
            <a:ext cx="8458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CLB and PA 25 Require Annual Evaluation of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Implementation of the pl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Student achievement results using data from state assessment and other indicato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Modify plan as need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ISDs/RESAs are required by PA25 to provide technical assistance to schools and districts to develop annual evalu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-57240" y="457200"/>
            <a:ext cx="99313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Requiremen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D2766-8105-4307-BBAA-C7BB581632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403440" y="1066680"/>
            <a:ext cx="3657600" cy="129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omprehensive Need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ssess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6070680" y="2362320"/>
            <a:ext cx="3429000" cy="1295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etermin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eed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>
            <a:off x="5918040" y="3962520"/>
            <a:ext cx="3733920" cy="1295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evelop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chool Improve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3174840" y="5410080"/>
            <a:ext cx="3733920" cy="12193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mple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660240" y="3962520"/>
            <a:ext cx="3505320" cy="1371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nitor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812880" y="2209680"/>
            <a:ext cx="3733560" cy="15242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valuate Impac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udent Achieve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1879560" y="3049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E699C-1E18-4A02-85B6-FBEFA421CD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5"/>
          <p:cNvSpPr/>
          <p:nvPr/>
        </p:nvSpPr>
        <p:spPr>
          <a:xfrm>
            <a:off x="5537160" y="1523880"/>
            <a:ext cx="3733920" cy="40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re are we now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re do we want to go and how are we going to get ther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id we do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6070680" y="4114800"/>
            <a:ext cx="2622600" cy="12193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"/>
          <p:cNvPicPr/>
          <p:nvPr/>
        </p:nvPicPr>
        <p:blipFill>
          <a:blip r:embed="rId2"/>
          <a:stretch/>
        </p:blipFill>
        <p:spPr>
          <a:xfrm>
            <a:off x="5918040" y="1905120"/>
            <a:ext cx="2632320" cy="11430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7"/>
          <p:cNvSpPr/>
          <p:nvPr/>
        </p:nvSpPr>
        <p:spPr>
          <a:xfrm>
            <a:off x="279360" y="1447920"/>
            <a:ext cx="41911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Comprehensive Needs Assess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507960" y="3352680"/>
            <a:ext cx="486900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3f3f3"/>
                </a:solidFill>
                <a:latin typeface="Verdana"/>
              </a:rPr>
              <a:t>School Improvement Pla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7" name="Picture 9" descr=""/>
          <p:cNvPicPr/>
          <p:nvPr/>
        </p:nvPicPr>
        <p:blipFill>
          <a:blip r:embed="rId3"/>
          <a:stretch/>
        </p:blipFill>
        <p:spPr>
          <a:xfrm>
            <a:off x="1803240" y="2209680"/>
            <a:ext cx="784440" cy="9907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0"/>
          <p:cNvSpPr/>
          <p:nvPr/>
        </p:nvSpPr>
        <p:spPr>
          <a:xfrm>
            <a:off x="507960" y="6140520"/>
            <a:ext cx="457200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Annual Education Repor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507960" y="3962520"/>
            <a:ext cx="48769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Verdana"/>
              </a:rPr>
              <a:t>Consolidated Grant funds utilized to support challenge areas (LEA Planning Cycle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Picture 12" descr=""/>
          <p:cNvPicPr/>
          <p:nvPr/>
        </p:nvPicPr>
        <p:blipFill>
          <a:blip r:embed="rId4"/>
          <a:stretch/>
        </p:blipFill>
        <p:spPr>
          <a:xfrm>
            <a:off x="1762200" y="5105520"/>
            <a:ext cx="784080" cy="9144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3"/>
          <p:cNvSpPr/>
          <p:nvPr/>
        </p:nvSpPr>
        <p:spPr>
          <a:xfrm>
            <a:off x="6603840" y="2362320"/>
            <a:ext cx="1721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leads to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6832440" y="4648320"/>
            <a:ext cx="1721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leads to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4089240" y="6477120"/>
            <a:ext cx="571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MAKING CONNECTIONS - THE BIG PICTU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Rectangle 16"/>
          <p:cNvSpPr/>
          <p:nvPr/>
        </p:nvSpPr>
        <p:spPr>
          <a:xfrm>
            <a:off x="965160" y="228600"/>
            <a:ext cx="8305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Requiremen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D3334-F907-4C61-9F12-24E41287D8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3936960" y="7086600"/>
            <a:ext cx="2057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36560" y="1752480"/>
            <a:ext cx="9001080" cy="40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Just do it!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 you write and implement your plan, consider these questions that will help when you need to evaluate th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of your pl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will we make sure action steps in each goal are moving forward under the identified timelines?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will we know that action steps are being implemented by staff with fidelity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is our structure for the school improvement team meetings to discuss progress throughout the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0" y="304920"/>
            <a:ext cx="99313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Implement the Pla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83EF3-95FC-402F-BA79-6E5E9D9417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507600" y="1980720"/>
            <a:ext cx="88851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822240" indent="-339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There is a Sharing Decision Making module that is available at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>
              <a:lnSpc>
                <a:spcPct val="95000"/>
              </a:lnSpc>
              <a:buClr>
                <a:srgbClr val="d16349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>
              <a:lnSpc>
                <a:spcPct val="95000"/>
              </a:lnSpc>
              <a:buClr>
                <a:srgbClr val="d16349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>
              <a:lnSpc>
                <a:spcPct val="95000"/>
              </a:lnSpc>
              <a:buClr>
                <a:srgbClr val="d16349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>
              <a:lnSpc>
                <a:spcPct val="95000"/>
              </a:lnSpc>
              <a:buClr>
                <a:srgbClr val="d16349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99ff99"/>
                </a:solidFill>
                <a:uFillTx/>
                <a:latin typeface="Verdana"/>
                <a:hlinkClick r:id="rId1"/>
              </a:rPr>
              <a:t>Mi Map Sharing Decision Mak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See Module 8-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4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64040" y="3386160"/>
            <a:ext cx="1193760" cy="61272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4"/>
          <p:cNvSpPr/>
          <p:nvPr/>
        </p:nvSpPr>
        <p:spPr>
          <a:xfrm>
            <a:off x="411120" y="304920"/>
            <a:ext cx="93376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Implement the Pla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25207-3972-469D-A43B-A24211D3FA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7960" y="2286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br>
              <a:rPr sz="50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hool Improvement Planning Proces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814680" y="1262880"/>
            <a:ext cx="8685000" cy="5668200"/>
            <a:chOff x="814680" y="1262880"/>
            <a:chExt cx="8685000" cy="5668200"/>
          </a:xfrm>
        </p:grpSpPr>
        <p:sp>
          <p:nvSpPr>
            <p:cNvPr id="284" name="_s89093"/>
            <p:cNvSpPr/>
            <p:nvPr/>
          </p:nvSpPr>
          <p:spPr>
            <a:xfrm flipH="1">
              <a:off x="298440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5" name="_s89094"/>
            <p:cNvSpPr/>
            <p:nvPr/>
          </p:nvSpPr>
          <p:spPr>
            <a:xfrm>
              <a:off x="814680" y="3350160"/>
              <a:ext cx="2171160" cy="1376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Do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mplement and Monitor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valuate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6" name="_s89095"/>
            <p:cNvSpPr/>
            <p:nvPr/>
          </p:nvSpPr>
          <p:spPr>
            <a:xfrm>
              <a:off x="5156640" y="472608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7" name="_s89096"/>
            <p:cNvSpPr/>
            <p:nvPr/>
          </p:nvSpPr>
          <p:spPr>
            <a:xfrm>
              <a:off x="4071240" y="54147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evelop Action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lvl="1" marL="507960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8" name="_s89097"/>
            <p:cNvSpPr/>
            <p:nvPr/>
          </p:nvSpPr>
          <p:spPr>
            <a:xfrm>
              <a:off x="624168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9" name="_s89098"/>
            <p:cNvSpPr/>
            <p:nvPr/>
          </p:nvSpPr>
          <p:spPr>
            <a:xfrm>
              <a:off x="732816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0" name="_s89099"/>
            <p:cNvSpPr/>
            <p:nvPr/>
          </p:nvSpPr>
          <p:spPr>
            <a:xfrm flipV="1">
              <a:off x="5156640" y="266076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1" name="_s89100"/>
            <p:cNvSpPr/>
            <p:nvPr/>
          </p:nvSpPr>
          <p:spPr>
            <a:xfrm>
              <a:off x="4071240" y="1285560"/>
              <a:ext cx="2171520" cy="1376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ather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etting Ready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ollect School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Build School Profile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2" name="_s89101"/>
            <p:cNvSpPr/>
            <p:nvPr/>
          </p:nvSpPr>
          <p:spPr>
            <a:xfrm>
              <a:off x="407124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Stud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Achievem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604800">
              <a:off x="6306120" y="1483560"/>
              <a:ext cx="2129040" cy="2049840"/>
            </a:xfrm>
            <a:custGeom>
              <a:avLst/>
              <a:gdLst>
                <a:gd name="textAreaLeft" fmla="*/ 0 w 2129040"/>
                <a:gd name="textAreaRight" fmla="*/ 2129400 w 2129040"/>
                <a:gd name="textAreaTop" fmla="*/ 0 h 2049840"/>
                <a:gd name="textAreaBottom" fmla="*/ 2050200 h 204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9335768"/>
                  <a:lnTo>
                    <a:pt x="965" y="6338"/>
                  </a:lnTo>
                  <a:arcTo wR="10800" hR="10800" stAng="-9335768" swAng="9335768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6195600">
              <a:off x="6220440" y="4298400"/>
              <a:ext cx="2045880" cy="2086920"/>
            </a:xfrm>
            <a:custGeom>
              <a:avLst/>
              <a:gdLst>
                <a:gd name="textAreaLeft" fmla="*/ 0 w 2045880"/>
                <a:gd name="textAreaRight" fmla="*/ 2046240 w 2045880"/>
                <a:gd name="textAreaTop" fmla="*/ 0 h 2086920"/>
                <a:gd name="textAreaBottom" fmla="*/ 2086920 h 208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7058" y="10318"/>
                  </a:moveTo>
                  <a:arcTo wR="-3773" hR="-3773" stAng="-10359732" swAng="-8044879"/>
                  <a:lnTo>
                    <a:pt x="4339" y="2146"/>
                  </a:lnTo>
                  <a:arcTo wR="10800" hR="10800" stAng="-7604611" swAng="8044879"/>
                  <a:lnTo>
                    <a:pt x="24189" y="12524"/>
                  </a:lnTo>
                  <a:lnTo>
                    <a:pt x="17233" y="17893"/>
                  </a:lnTo>
                  <a:lnTo>
                    <a:pt x="11864" y="10937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7413800">
              <a:off x="1476000" y="1735200"/>
              <a:ext cx="2341800" cy="1914840"/>
            </a:xfrm>
            <a:custGeom>
              <a:avLst/>
              <a:gdLst>
                <a:gd name="textAreaLeft" fmla="*/ 0 w 2341800"/>
                <a:gd name="textAreaRight" fmla="*/ 2342160 w 23418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906234"/>
                  <a:lnTo>
                    <a:pt x="3606" y="2745"/>
                  </a:lnTo>
                  <a:arcTo wR="10800" hR="10800" stAng="-7906234" swAng="7906234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9086400">
              <a:off x="1959480" y="4498560"/>
              <a:ext cx="1768680" cy="2139480"/>
            </a:xfrm>
            <a:custGeom>
              <a:avLst/>
              <a:gdLst>
                <a:gd name="textAreaLeft" fmla="*/ 0 w 1768680"/>
                <a:gd name="textAreaRight" fmla="*/ 1769040 w 1768680"/>
                <a:gd name="textAreaTop" fmla="*/ 0 h 2139480"/>
                <a:gd name="textAreaBottom" fmla="*/ 2139840 h 213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7669" y="9249"/>
                  </a:moveTo>
                  <a:arcTo wR="-3494" hR="-3494" stAng="-9218858" swAng="-8879301"/>
                  <a:lnTo>
                    <a:pt x="5135" y="1605"/>
                  </a:lnTo>
                  <a:arcTo wR="10800" hR="10800" stAng="-7298158" swAng="8879301"/>
                  <a:lnTo>
                    <a:pt x="22897" y="16793"/>
                  </a:lnTo>
                  <a:lnTo>
                    <a:pt x="14384" y="19665"/>
                  </a:lnTo>
                  <a:lnTo>
                    <a:pt x="11511" y="11152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83520" y="3863880"/>
              <a:ext cx="1459440" cy="487800"/>
            </a:xfrm>
            <a:prstGeom prst="leftRightArrow">
              <a:avLst>
                <a:gd name="adj1" fmla="val 50000"/>
                <a:gd name="adj2" fmla="val 5956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8" name="_s1032"/>
            <p:cNvSpPr/>
            <p:nvPr/>
          </p:nvSpPr>
          <p:spPr>
            <a:xfrm>
              <a:off x="6249600" y="4156560"/>
              <a:ext cx="10875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5400000">
              <a:off x="4666680" y="4859280"/>
              <a:ext cx="975600" cy="546120"/>
            </a:xfrm>
            <a:prstGeom prst="leftRightArrow">
              <a:avLst>
                <a:gd name="adj1" fmla="val 50000"/>
                <a:gd name="adj2" fmla="val 35563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00" name=""/>
          <p:cNvSpPr/>
          <p:nvPr/>
        </p:nvSpPr>
        <p:spPr>
          <a:xfrm flipH="1" rot="5400000">
            <a:off x="4714920" y="2726280"/>
            <a:ext cx="957240" cy="533160"/>
          </a:xfrm>
          <a:prstGeom prst="leftRightArrow">
            <a:avLst>
              <a:gd name="adj1" fmla="val 50000"/>
              <a:gd name="adj2" fmla="val 35742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5994360" y="3886200"/>
            <a:ext cx="1447920" cy="457200"/>
          </a:xfrm>
          <a:prstGeom prst="leftRightArrow">
            <a:avLst>
              <a:gd name="adj1" fmla="val 50000"/>
              <a:gd name="adj2" fmla="val 63045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7213680" y="3429000"/>
            <a:ext cx="2361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ud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 Goals and Measurable Objectiv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Best Practi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E8A43-C174-463F-AA8E-E666719480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indemanJ</cp:lastModifiedBy>
  <dcterms:modified xsi:type="dcterms:W3CDTF">2009-03-17T19:02:32Z</dcterms:modified>
  <cp:revision>183</cp:revision>
  <dc:subject/>
  <dc:title>PowerPoint Presentation</dc:title>
</cp:coreProperties>
</file>