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EE0CB4-4BE9-420B-B296-C1C0A3FC4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23174F-12A0-4CDB-9A96-24DEEF4EF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8F95D1-D8C2-4885-9C3D-613A392B46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3B72E2-4567-4EFF-840C-A2F7DF2A4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26E4A3-70D8-40FD-98DC-D8D42A1FD8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64DF4D-C0D6-4A94-8493-6956D7FD57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F96B01-5AC4-4902-B93F-9FC7956EF3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627D65-FAED-466E-8D19-8CFFA960B4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08D24D-2133-4B44-9A6A-0769248CA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B3BB6B-546B-4F0D-BC03-3F755209C8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4D5151-F040-4FE2-8C3D-0DBBE79ACE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2EE1C9-A6E6-4BA2-83D9-206E3AD8A2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A31F92-F53A-449F-B507-D347588DE7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4EE63B-06FE-42A3-BC10-D9CA84A80F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E085F5-1B2A-4A56-A573-EB1176C513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B1FFDA-FC3F-42A2-9BA6-30FFE36312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6A74BD-CE5F-4ABB-8151-DBC12E2B2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7975E5-2FE5-4241-A579-065B73F3DA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D56C45-4936-4CAC-B9A0-6E91EC6A18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FD82E3-8E8B-4946-B29F-CFE3CED26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1F775B-6A00-4F22-8156-6C828D35EC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C67570-4821-4B5B-AF54-C79212B8AE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nim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0E3974-67A1-408B-B9C0-F5AA65573F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AC22-AC8A-42AD-94F9-85AFE15BD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E23F-6D15-40BE-B969-973AF101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700E-D040-4C4E-80AF-CCAD8B2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9914-2DD4-48CC-81C2-9F94EF05B1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E125A-E098-49AE-9D2A-393D62C1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F46E2-A2C8-4A4F-9BCB-CF102356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6E75D-ED85-4B10-B5D6-0A737CCD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0EB8B-159F-427A-92B1-F912DC7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E808B-A4C9-4C6E-831F-0215C3E6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0B7A4-5DAE-4D9B-9F7E-6017E487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F8589-3938-4C20-97C7-00767528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04C9-D9E9-45D4-8EB7-27A6F12E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260E7-A0CF-4938-B98C-39CC7AB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AE271-EAF2-46AE-83B2-006D146C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9C83-ABD3-4998-A7C2-F07BD4A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D6AB1-5F75-4A25-B8F9-54C4B99C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AF275-CCC2-4B00-81D2-BF57F121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E8B3-1F28-4B91-9429-45C73380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B7F3-D305-4793-9320-254CE8A8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12A8-D940-455D-A5EF-F9F6BDD2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0F90-9488-4FD1-A163-DE0F8A63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110C-1910-4800-8B4E-C137E322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1AC7-6699-4805-9772-1C9192FE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0693-5C28-4D59-8015-0E96633C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4741920"/>
            <a:ext cx="10156320" cy="2877840"/>
            <a:chOff x="0" y="4741920"/>
            <a:chExt cx="10156320" cy="2877840"/>
          </a:xfrm>
        </p:grpSpPr>
        <p:sp>
          <p:nvSpPr>
            <p:cNvPr id="2" name="Freeform 4"/>
            <p:cNvSpPr/>
            <p:nvPr/>
          </p:nvSpPr>
          <p:spPr>
            <a:xfrm>
              <a:off x="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219720" y="6553080"/>
              <a:ext cx="1396440" cy="918360"/>
              <a:chOff x="6219720" y="6553080"/>
              <a:chExt cx="1396440" cy="91836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49980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57072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66936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73992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79968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30432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51600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21972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29352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900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89508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129120" y="6405120"/>
              <a:ext cx="2867040" cy="1203840"/>
              <a:chOff x="3129120" y="6405120"/>
              <a:chExt cx="2867040" cy="120384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99636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07772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12524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17276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20300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29444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36320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47984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544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77460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66840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26464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64356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28932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20128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08492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82372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12912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277760" y="5927040"/>
              <a:ext cx="2382840" cy="1447200"/>
              <a:chOff x="7277760" y="5927040"/>
              <a:chExt cx="2382840" cy="1447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40484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27776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45064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24948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94268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40824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92692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83684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67268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04672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86888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801504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807156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13312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20548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26920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35560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309600" y="5334480"/>
              <a:ext cx="749160" cy="454320"/>
              <a:chOff x="9309600" y="5334480"/>
              <a:chExt cx="749160" cy="45432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30960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37152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995328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48204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35532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67824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42408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487800" y="5441760"/>
                <a:ext cx="399960" cy="232200"/>
                <a:chOff x="9487800" y="5441760"/>
                <a:chExt cx="399960" cy="23220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48780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52632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57744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62316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D4E-C4DB-4C6E-8161-945F39242F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2"/>
          </p:nvPr>
        </p:nvSpPr>
        <p:spPr>
          <a:xfrm>
            <a:off x="4165560" y="7010280"/>
            <a:ext cx="1905120" cy="43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3B5B-8B0A-46F9-B706-705EC6775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6" descr="color logo"/>
          <p:cNvPicPr/>
          <p:nvPr/>
        </p:nvPicPr>
        <p:blipFill>
          <a:blip r:embed="rId3"/>
          <a:stretch/>
        </p:blipFill>
        <p:spPr>
          <a:xfrm>
            <a:off x="8508960" y="6934320"/>
            <a:ext cx="139716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1640" y="67816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803240" y="6781680"/>
            <a:ext cx="152424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3240" y="4741920"/>
            <a:ext cx="10156320" cy="2877840"/>
            <a:chOff x="3240" y="4741920"/>
            <a:chExt cx="10156320" cy="2877840"/>
          </a:xfrm>
        </p:grpSpPr>
        <p:sp>
          <p:nvSpPr>
            <p:cNvPr id="110" name="Freeform 4"/>
            <p:cNvSpPr/>
            <p:nvPr/>
          </p:nvSpPr>
          <p:spPr>
            <a:xfrm>
              <a:off x="324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" name="Group 5"/>
            <p:cNvGrpSpPr/>
            <p:nvPr/>
          </p:nvGrpSpPr>
          <p:grpSpPr>
            <a:xfrm>
              <a:off x="6222960" y="6553080"/>
              <a:ext cx="1396440" cy="918360"/>
              <a:chOff x="6222960" y="6553080"/>
              <a:chExt cx="1396440" cy="918360"/>
            </a:xfrm>
          </p:grpSpPr>
          <p:sp>
            <p:nvSpPr>
              <p:cNvPr id="112" name="Oval 6"/>
              <p:cNvSpPr/>
              <p:nvPr/>
            </p:nvSpPr>
            <p:spPr>
              <a:xfrm>
                <a:off x="650304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Oval 7"/>
              <p:cNvSpPr/>
              <p:nvPr/>
            </p:nvSpPr>
            <p:spPr>
              <a:xfrm>
                <a:off x="657396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Oval 8"/>
              <p:cNvSpPr/>
              <p:nvPr/>
            </p:nvSpPr>
            <p:spPr>
              <a:xfrm>
                <a:off x="667260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Oval 9"/>
              <p:cNvSpPr/>
              <p:nvPr/>
            </p:nvSpPr>
            <p:spPr>
              <a:xfrm>
                <a:off x="674316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Oval 10"/>
              <p:cNvSpPr/>
              <p:nvPr/>
            </p:nvSpPr>
            <p:spPr>
              <a:xfrm>
                <a:off x="680292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11"/>
              <p:cNvSpPr/>
              <p:nvPr/>
            </p:nvSpPr>
            <p:spPr>
              <a:xfrm>
                <a:off x="630756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12"/>
              <p:cNvSpPr/>
              <p:nvPr/>
            </p:nvSpPr>
            <p:spPr>
              <a:xfrm>
                <a:off x="651924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13"/>
              <p:cNvSpPr/>
              <p:nvPr/>
            </p:nvSpPr>
            <p:spPr>
              <a:xfrm>
                <a:off x="622296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14"/>
              <p:cNvSpPr/>
              <p:nvPr/>
            </p:nvSpPr>
            <p:spPr>
              <a:xfrm>
                <a:off x="629676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5"/>
              <p:cNvSpPr/>
              <p:nvPr/>
            </p:nvSpPr>
            <p:spPr>
              <a:xfrm>
                <a:off x="712224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Oval 16"/>
              <p:cNvSpPr/>
              <p:nvPr/>
            </p:nvSpPr>
            <p:spPr>
              <a:xfrm>
                <a:off x="689832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17"/>
            <p:cNvGrpSpPr/>
            <p:nvPr/>
          </p:nvGrpSpPr>
          <p:grpSpPr>
            <a:xfrm>
              <a:off x="3132360" y="6405120"/>
              <a:ext cx="2867040" cy="1203840"/>
              <a:chOff x="3132360" y="6405120"/>
              <a:chExt cx="2867040" cy="1203840"/>
            </a:xfrm>
          </p:grpSpPr>
          <p:sp>
            <p:nvSpPr>
              <p:cNvPr id="124" name="Oval 18"/>
              <p:cNvSpPr/>
              <p:nvPr/>
            </p:nvSpPr>
            <p:spPr>
              <a:xfrm>
                <a:off x="399960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9"/>
              <p:cNvSpPr/>
              <p:nvPr/>
            </p:nvSpPr>
            <p:spPr>
              <a:xfrm>
                <a:off x="408096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20"/>
              <p:cNvSpPr/>
              <p:nvPr/>
            </p:nvSpPr>
            <p:spPr>
              <a:xfrm>
                <a:off x="412848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21"/>
              <p:cNvSpPr/>
              <p:nvPr/>
            </p:nvSpPr>
            <p:spPr>
              <a:xfrm>
                <a:off x="417600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Oval 22"/>
              <p:cNvSpPr/>
              <p:nvPr/>
            </p:nvSpPr>
            <p:spPr>
              <a:xfrm>
                <a:off x="420624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Oval 23"/>
              <p:cNvSpPr/>
              <p:nvPr/>
            </p:nvSpPr>
            <p:spPr>
              <a:xfrm>
                <a:off x="429768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Oval 24"/>
              <p:cNvSpPr/>
              <p:nvPr/>
            </p:nvSpPr>
            <p:spPr>
              <a:xfrm>
                <a:off x="436644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Oval 25"/>
              <p:cNvSpPr/>
              <p:nvPr/>
            </p:nvSpPr>
            <p:spPr>
              <a:xfrm>
                <a:off x="448308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26"/>
              <p:cNvSpPr/>
              <p:nvPr/>
            </p:nvSpPr>
            <p:spPr>
              <a:xfrm>
                <a:off x="455868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27"/>
              <p:cNvSpPr/>
              <p:nvPr/>
            </p:nvSpPr>
            <p:spPr>
              <a:xfrm>
                <a:off x="377784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28"/>
              <p:cNvSpPr/>
              <p:nvPr/>
            </p:nvSpPr>
            <p:spPr>
              <a:xfrm>
                <a:off x="367164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29"/>
              <p:cNvSpPr/>
              <p:nvPr/>
            </p:nvSpPr>
            <p:spPr>
              <a:xfrm>
                <a:off x="526788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30"/>
              <p:cNvSpPr/>
              <p:nvPr/>
            </p:nvSpPr>
            <p:spPr>
              <a:xfrm>
                <a:off x="364680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31"/>
              <p:cNvSpPr/>
              <p:nvPr/>
            </p:nvSpPr>
            <p:spPr>
              <a:xfrm>
                <a:off x="329256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32"/>
              <p:cNvSpPr/>
              <p:nvPr/>
            </p:nvSpPr>
            <p:spPr>
              <a:xfrm>
                <a:off x="520452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33"/>
              <p:cNvSpPr/>
              <p:nvPr/>
            </p:nvSpPr>
            <p:spPr>
              <a:xfrm>
                <a:off x="408816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Freeform 34"/>
              <p:cNvSpPr/>
              <p:nvPr/>
            </p:nvSpPr>
            <p:spPr>
              <a:xfrm>
                <a:off x="582696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Freeform 35"/>
              <p:cNvSpPr/>
              <p:nvPr/>
            </p:nvSpPr>
            <p:spPr>
              <a:xfrm>
                <a:off x="313236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36"/>
            <p:cNvGrpSpPr/>
            <p:nvPr/>
          </p:nvGrpSpPr>
          <p:grpSpPr>
            <a:xfrm>
              <a:off x="7281000" y="5927040"/>
              <a:ext cx="2382840" cy="1447200"/>
              <a:chOff x="7281000" y="5927040"/>
              <a:chExt cx="2382840" cy="1447200"/>
            </a:xfrm>
          </p:grpSpPr>
          <p:sp>
            <p:nvSpPr>
              <p:cNvPr id="143" name="Freeform 37"/>
              <p:cNvSpPr/>
              <p:nvPr/>
            </p:nvSpPr>
            <p:spPr>
              <a:xfrm>
                <a:off x="740808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38"/>
              <p:cNvSpPr/>
              <p:nvPr/>
            </p:nvSpPr>
            <p:spPr>
              <a:xfrm>
                <a:off x="728100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39"/>
              <p:cNvSpPr/>
              <p:nvPr/>
            </p:nvSpPr>
            <p:spPr>
              <a:xfrm>
                <a:off x="845388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40"/>
              <p:cNvSpPr/>
              <p:nvPr/>
            </p:nvSpPr>
            <p:spPr>
              <a:xfrm>
                <a:off x="925272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41"/>
              <p:cNvSpPr/>
              <p:nvPr/>
            </p:nvSpPr>
            <p:spPr>
              <a:xfrm>
                <a:off x="794592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42"/>
              <p:cNvSpPr/>
              <p:nvPr/>
            </p:nvSpPr>
            <p:spPr>
              <a:xfrm>
                <a:off x="941148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43"/>
              <p:cNvSpPr/>
              <p:nvPr/>
            </p:nvSpPr>
            <p:spPr>
              <a:xfrm>
                <a:off x="893016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44"/>
              <p:cNvSpPr/>
              <p:nvPr/>
            </p:nvSpPr>
            <p:spPr>
              <a:xfrm>
                <a:off x="784008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45"/>
              <p:cNvSpPr/>
              <p:nvPr/>
            </p:nvSpPr>
            <p:spPr>
              <a:xfrm>
                <a:off x="767592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46"/>
              <p:cNvSpPr/>
              <p:nvPr/>
            </p:nvSpPr>
            <p:spPr>
              <a:xfrm>
                <a:off x="804996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47"/>
              <p:cNvSpPr/>
              <p:nvPr/>
            </p:nvSpPr>
            <p:spPr>
              <a:xfrm>
                <a:off x="787212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48"/>
              <p:cNvSpPr/>
              <p:nvPr/>
            </p:nvSpPr>
            <p:spPr>
              <a:xfrm>
                <a:off x="801828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49"/>
              <p:cNvSpPr/>
              <p:nvPr/>
            </p:nvSpPr>
            <p:spPr>
              <a:xfrm>
                <a:off x="807480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Oval 50"/>
              <p:cNvSpPr/>
              <p:nvPr/>
            </p:nvSpPr>
            <p:spPr>
              <a:xfrm>
                <a:off x="813636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Oval 51"/>
              <p:cNvSpPr/>
              <p:nvPr/>
            </p:nvSpPr>
            <p:spPr>
              <a:xfrm>
                <a:off x="820872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Oval 52"/>
              <p:cNvSpPr/>
              <p:nvPr/>
            </p:nvSpPr>
            <p:spPr>
              <a:xfrm>
                <a:off x="827244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Oval 53"/>
              <p:cNvSpPr/>
              <p:nvPr/>
            </p:nvSpPr>
            <p:spPr>
              <a:xfrm>
                <a:off x="835884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54"/>
            <p:cNvGrpSpPr/>
            <p:nvPr/>
          </p:nvGrpSpPr>
          <p:grpSpPr>
            <a:xfrm>
              <a:off x="9312840" y="5334480"/>
              <a:ext cx="749160" cy="454320"/>
              <a:chOff x="9312840" y="5334480"/>
              <a:chExt cx="749160" cy="454320"/>
            </a:xfrm>
          </p:grpSpPr>
          <p:sp>
            <p:nvSpPr>
              <p:cNvPr id="161" name="Freeform 55"/>
              <p:cNvSpPr/>
              <p:nvPr/>
            </p:nvSpPr>
            <p:spPr>
              <a:xfrm>
                <a:off x="931284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56"/>
              <p:cNvSpPr/>
              <p:nvPr/>
            </p:nvSpPr>
            <p:spPr>
              <a:xfrm>
                <a:off x="937476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995652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948528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935856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968148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61"/>
              <p:cNvSpPr/>
              <p:nvPr/>
            </p:nvSpPr>
            <p:spPr>
              <a:xfrm>
                <a:off x="942732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8" name="Group 62"/>
              <p:cNvGrpSpPr/>
              <p:nvPr/>
            </p:nvGrpSpPr>
            <p:grpSpPr>
              <a:xfrm>
                <a:off x="9491040" y="5441760"/>
                <a:ext cx="399960" cy="232200"/>
                <a:chOff x="9491040" y="5441760"/>
                <a:chExt cx="399960" cy="232200"/>
              </a:xfrm>
            </p:grpSpPr>
            <p:sp>
              <p:nvSpPr>
                <p:cNvPr id="169" name="Oval 63"/>
                <p:cNvSpPr/>
                <p:nvPr/>
              </p:nvSpPr>
              <p:spPr>
                <a:xfrm>
                  <a:off x="949104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0" name="Oval 64"/>
                <p:cNvSpPr/>
                <p:nvPr/>
              </p:nvSpPr>
              <p:spPr>
                <a:xfrm>
                  <a:off x="952956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1" name="Oval 65"/>
                <p:cNvSpPr/>
                <p:nvPr/>
              </p:nvSpPr>
              <p:spPr>
                <a:xfrm>
                  <a:off x="958068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2" name="Oval 66"/>
                <p:cNvSpPr/>
                <p:nvPr/>
              </p:nvSpPr>
              <p:spPr>
                <a:xfrm>
                  <a:off x="962640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CDA6-7D82-4287-B95D-ABD269DD78E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4"/>
          </p:nvPr>
        </p:nvSpPr>
        <p:spPr>
          <a:xfrm>
            <a:off x="3936600" y="6933960"/>
            <a:ext cx="205740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357-4C7F-420A-AFD0-D0D381F94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594560" y="6705720"/>
            <a:ext cx="1600200" cy="725400"/>
            <a:chOff x="7594560" y="6705720"/>
            <a:chExt cx="1600200" cy="725400"/>
          </a:xfrm>
        </p:grpSpPr>
        <p:pic>
          <p:nvPicPr>
            <p:cNvPr id="178" name="Picture 4" descr=""/>
            <p:cNvPicPr/>
            <p:nvPr/>
          </p:nvPicPr>
          <p:blipFill>
            <a:blip r:embed="rId3"/>
            <a:stretch/>
          </p:blipFill>
          <p:spPr>
            <a:xfrm>
              <a:off x="7594560" y="6705720"/>
              <a:ext cx="1600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laceHolder 5"/>
            <p:cNvSpPr>
              <a:spLocks noGrp="1"/>
            </p:cNvSpPr>
            <p:nvPr>
              <p:ph type="ftr" idx="5"/>
            </p:nvPr>
          </p:nvSpPr>
          <p:spPr>
            <a:xfrm>
              <a:off x="7594560" y="6705720"/>
              <a:ext cx="1600200" cy="72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chigan.gov/mde/0,1607,7-140-28735_33424-,00.html" TargetMode="External"/><Relationship Id="rId2" Type="http://schemas.openxmlformats.org/officeDocument/2006/relationships/hyperlink" Target="http://www.michigan.gov/mde/0,1607,7-140-28735_33424-,00.html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3936960" y="7010280"/>
            <a:ext cx="20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636040" cy="22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6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chool Improveme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odule 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880" y="4647960"/>
            <a:ext cx="711216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nitor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te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00F2-B912-45F7-92DE-B056E4315F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3656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will we monitor our progr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e to or begin to collect data to review and monitor plan effectiven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and adjust plan continually, if needed, to ensure implementation/ability to moni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who we want to communicate with along the way (staff, parents, board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how we are going to communicate progress with all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-114480" y="228600"/>
            <a:ext cx="10388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B6CE-0047-4A2F-91FE-66232EBF82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88840" y="1752480"/>
            <a:ext cx="83822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ative assessment for learning measu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here to scheduled progress monitoring meeting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ate staff to monitor and cheerl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s to help organize data and information being monito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NOT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660F-EB51-4F54-858F-F482C72AE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955880" y="2743200"/>
            <a:ext cx="6858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are your questions about implementing and monitoring the plan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7336-886E-4EAA-A56B-F53E2A29EE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314" name="_s90117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_s90118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" name="_s90119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_s90120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_s90121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_s90122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" name="_s90123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_s90124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_s90125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DE28-19E7-4A1F-AD93-8C50FC5813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94800" y="2133720"/>
            <a:ext cx="8566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id people follow through with their responsibilities in the action step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easure progress of plan implementation utilizing process/measures identified in the action pl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Have the measures to assess effectiveness of the plan been implemented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re additional measures needed to more effectively monitor plan implementat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041480" y="304920"/>
            <a:ext cx="86104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2401-EDA8-48F2-816A-BFA85FC6B4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71120" y="2133720"/>
            <a:ext cx="856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Even the best plans meet with unpredictable obstacles and distra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f implementation of some action steps are problematic, ask why, and modify to increase the likelihood of effective implemen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 when these changes/modifications should be star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117440" y="304920"/>
            <a:ext cx="8153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4E8F-3FAC-4CCC-AD72-769E9E7A71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3656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 modifications or changes that will ne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made in the implementation of the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the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additional measures are needed, such as perception data from focus groups, conversations with staff, and/or additional surve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965160" y="228600"/>
            <a:ext cx="8381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660240" y="5334120"/>
            <a:ext cx="906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s may be a great time to conduct focus groups or to re-administer perception surveys to staff, parents, and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C464-5090-409D-9E40-A20A0824F0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65160" y="304920"/>
            <a:ext cx="83818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ving from Evaluation of Implementation to Evaluation of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41480" y="4343400"/>
            <a:ext cx="754704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will we know that the 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s are making a difference in student achievemen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84280" y="3048120"/>
            <a:ext cx="84265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 the progression of the action plan and its impact on student achieve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22D7-A338-458C-9880-89802EFD95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60240" y="2374560"/>
            <a:ext cx="876312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chool Improvement T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role shifts from driving the process to helping determine the degree to which the strategies and activities are making a difference in student achievement and how to strengthen the various school improvement initi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BBF9-AFE2-49A3-989E-AA80EE583F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9880" y="2286000"/>
            <a:ext cx="85345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progress in the Comprehensive Needs Assessment School Data Analysis and School Process Analysis. Use the School Summary Report to assess the overall impact of the school improvement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eam collects and analyzes data from the state, national, and classroom-based assessments, and other measures, to determine if school improvement goals were met, and if the action plans were successful in improving student achie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30F2-23C4-4950-A1C5-A0553CE484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28" name="_s88069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88070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_s88071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_s88072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_s88073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_s88074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_s88075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_s88076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_s88077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F474-4FAA-4AB1-92C0-C86D7FC97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812880" y="2437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student achievement improv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close did the school come to the measurable goal objectives that were s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there gaps in the performance of any subgroup(s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A82C-3B63-4BD9-AA21-192F645000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36560" y="2437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also critical that the School Improvement Team structure opportunities to celebrate success, no matter how s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lebrating successes reinforces valued performance and reminds the school community that however challenging, school improvement results in improved academic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5AE7-1CB0-4861-8B7C-AD7DCE4EBC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79320" y="228600"/>
            <a:ext cx="86392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7960" y="1905120"/>
          <a:ext cx="9220320" cy="4682880"/>
        </p:xfrm>
        <a:graphic>
          <a:graphicData uri="http://schemas.openxmlformats.org/drawingml/2006/table">
            <a:tbl>
              <a:tblPr/>
              <a:tblGrid>
                <a:gridCol w="9220320"/>
              </a:tblGrid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Performance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pecific skills to be learned by the student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ive (s) to support this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the strategies developed to support this objective implemented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activities developed to support this strategy implemen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the identified resources available and utilized to support this goal area?  Yes   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summative student achievement data indicate that this objective has been me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the school/district met AYP in this content are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each subgroup met AYP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at progress has been demonstra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barriers or challenges have occurred since the plan was writte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steps should be taken to address these barriers or challenges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the School Improvement Plan need to be adjusted to reflect any of the above information?  If so how will it be adjus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0631-6F54-499A-97C1-B100F02284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964800" y="2057040"/>
            <a:ext cx="8372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process is cyclical, and evaluation data should inform the next cycle of plann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ultimate goal is to have improvement strategies take hold and become so internalized that they become part of the school cul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907920" y="30492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4B86-67D3-4A95-B6CB-74B3B80C8F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47440" y="1600200"/>
            <a:ext cx="8566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ntinuous improvement means there are always other ways to improv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asure the effectiveness of your strategies based on the School Summary Re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ing the planning process full circle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continue to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stop do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need to “tweak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School Improvement Team ca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ve on to new goals when original goals ar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roup, revise the action plan, and continue with the process heading into the following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907920" y="25416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B5F3-AE1C-4FCD-AFC0-B5B282C112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5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46040" y="2895480"/>
            <a:ext cx="8001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your questions about evaluating the plan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B3BC-C3E1-46F3-BB3A-95FE0E74A2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1200" y="219240"/>
            <a:ext cx="9028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Maste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1252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e possess skill in the use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etting ready to begin the school improvement proce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ssion and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llecting, selecting data, and building a profi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alyzing data and identifying goals and measurable goal objectiv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dentifying and prioritizing school improvement go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ing research to identify and select improvement strategies and practi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ing an action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ing implementation of the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ing the impact of the plan on student achieve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6506-8ACC-4020-AD3C-F985F01CAC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2"/>
          <a:stretch/>
        </p:blipFill>
        <p:spPr>
          <a:xfrm>
            <a:off x="2708280" y="270504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3"/>
          <a:stretch/>
        </p:blipFill>
        <p:spPr>
          <a:xfrm>
            <a:off x="419040" y="2705040"/>
            <a:ext cx="2298600" cy="2295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4"/>
          <a:stretch/>
        </p:blipFill>
        <p:spPr>
          <a:xfrm>
            <a:off x="2708280" y="5019840"/>
            <a:ext cx="2295360" cy="2295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5"/>
          <a:stretch/>
        </p:blipFill>
        <p:spPr>
          <a:xfrm>
            <a:off x="419040" y="4991040"/>
            <a:ext cx="2298600" cy="2295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2"/>
          <p:cNvSpPr/>
          <p:nvPr/>
        </p:nvSpPr>
        <p:spPr>
          <a:xfrm>
            <a:off x="1117440" y="2895480"/>
            <a:ext cx="82296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However noble, sophisticated, or enlightened proposals for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change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improvement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might be, they come to nothing if teachers don’t adopt them in their own classrooms and if they don’t translate them into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effective classroom practices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1270080" y="1905120"/>
            <a:ext cx="7848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888840" y="457200"/>
            <a:ext cx="678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14" descr="j0439433[1]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279360" y="304920"/>
            <a:ext cx="2057400" cy="1368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2778120" y="793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16" descr="MPj04008320000[1]"/>
          <p:cNvPicPr/>
          <p:nvPr/>
        </p:nvPicPr>
        <p:blipFill>
          <a:blip r:embed="rId7"/>
          <a:stretch/>
        </p:blipFill>
        <p:spPr>
          <a:xfrm>
            <a:off x="2336760" y="304920"/>
            <a:ext cx="2022480" cy="13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8E1D-B60D-4A72-A59B-AC310459C7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055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 Overview and Vocabula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431640" y="1828800"/>
            <a:ext cx="4800600" cy="436284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Required Annual Evaluation of NCLB and PA 2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The Big Pictu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Monitor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the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689440" y="2349360"/>
            <a:ext cx="4038840" cy="3684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rehensive Needs Assessment (CN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ublic Act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olidated Gra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A Planning Cyc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595E-9E46-4170-824E-6E425ADC6E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64800" y="2209680"/>
            <a:ext cx="8458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CLB and PA 25 Require Annual Evaluation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mplementation of the p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tudent achievement results using data from state assessment and other indicato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odify plan as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SDs/RESAs are required by PA25 to provide technical assistance to schools and districts to develop annual eval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-57240" y="45720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D6C7-49AE-42B9-A36D-6051B2797F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403440" y="1066680"/>
            <a:ext cx="36576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mprehensive Need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070680" y="2362320"/>
            <a:ext cx="342900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term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ee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918040" y="3962520"/>
            <a:ext cx="373392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chool Impro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3174840" y="5410080"/>
            <a:ext cx="3733920" cy="121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962520"/>
            <a:ext cx="35053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812880" y="2209680"/>
            <a:ext cx="3733560" cy="1524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e Imp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Achie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187956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51E5-8E64-43A6-966A-C3E9D2F5CF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5537160" y="1523880"/>
            <a:ext cx="373392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are we now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we want to go and how are we going to get the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id we do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070680" y="4114800"/>
            <a:ext cx="2622600" cy="1219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5918040" y="1905120"/>
            <a:ext cx="2632320" cy="1143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279360" y="1447920"/>
            <a:ext cx="41911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omprehensive Needs 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07960" y="3352680"/>
            <a:ext cx="4869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3f3f3"/>
                </a:solidFill>
                <a:latin typeface="Verdana"/>
              </a:rPr>
              <a:t>School Improvement 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3"/>
          <a:stretch/>
        </p:blipFill>
        <p:spPr>
          <a:xfrm>
            <a:off x="1803240" y="2209680"/>
            <a:ext cx="784440" cy="99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507960" y="6140520"/>
            <a:ext cx="4572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07960" y="3962520"/>
            <a:ext cx="4876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Consolidated Grant funds utilized to support challenge areas (LEA Planning Cycl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12" descr=""/>
          <p:cNvPicPr/>
          <p:nvPr/>
        </p:nvPicPr>
        <p:blipFill>
          <a:blip r:embed="rId4"/>
          <a:stretch/>
        </p:blipFill>
        <p:spPr>
          <a:xfrm>
            <a:off x="1762200" y="5105520"/>
            <a:ext cx="784080" cy="9144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6603840" y="2362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6832440" y="4648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089240" y="6477120"/>
            <a:ext cx="571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KING CONNECTIONS - THE BIG PIC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965160" y="228600"/>
            <a:ext cx="830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8BAD-E983-47E1-9594-627C2807C3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3936960" y="7086600"/>
            <a:ext cx="20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36560" y="1752480"/>
            <a:ext cx="90010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Just do it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you write and implement your plan, consider these questions that will help when you need to evaluat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 your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make sure action steps in each goal are moving forward under the identified timelines?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know that action steps are being implemented by staff with fidelit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our structure for the school improvement team meetings to discuss progress throughout the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30492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BD5F-9D46-4E89-B047-B68CB9067C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7600" y="1980720"/>
            <a:ext cx="8885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22240" indent="-33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ere is a Sharing Decision Making module that is available a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Mi Map Sharing Decision Ma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ee Module 8-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4040" y="3386160"/>
            <a:ext cx="1193760" cy="612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3B49-582C-46E2-B058-BCB134C24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5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84" name="_s89093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_s89094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_s89095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_s89096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_s89097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_s89098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_s89099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_s89100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_s89101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1E98-0AF4-4BC8-8F6C-0ED81462DA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ndemanJ</cp:lastModifiedBy>
  <dcterms:modified xsi:type="dcterms:W3CDTF">2009-03-17T19:02:32Z</dcterms:modified>
  <cp:revision>183</cp:revision>
  <dc:subject/>
  <dc:title>PowerPoint Presentation</dc:title>
</cp:coreProperties>
</file>